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3B997-8C4C-4439-A011-1064C0CBD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A459-ECAB-4984-A728-BE1EA4BD3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04EB-E033-48C9-A1BE-6D1B29A26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9503-9372-4E03-BFC9-7F7F7DFC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D189-0F01-41CF-BD1B-B45691CCE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D13FA-220C-4E1E-A22C-21ACF119D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0E12-0BF9-4B1A-BCAA-6A5FF68F2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C5C-5B3F-4F59-9D5C-93304F8056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0008-D2D6-42DA-9298-87193A1E9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B912-78E6-43AF-A273-482E6F554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95AC-0B8C-4042-826F-32849EC3A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D015-D72F-4673-9845-577B88F93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69F6-1D41-4D1D-AB79-0739DBE357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img15.nnm.ru/9/4/4/b/3/ddd4ad01f1edce367324fb3edb0.jpg" TargetMode="External"/><Relationship Id="rId3" Type="http://schemas.openxmlformats.org/officeDocument/2006/relationships/hyperlink" Target="http://polysxoloda.lghost.ru/images/5.jpg" TargetMode="External"/><Relationship Id="rId4" Type="http://schemas.openxmlformats.org/officeDocument/2006/relationships/hyperlink" Target="http://g.io.ua/img_aa/large/0146/62/01466205.jpg" TargetMode="External"/><Relationship Id="rId5" Type="http://schemas.openxmlformats.org/officeDocument/2006/relationships/hyperlink" Target="http://altairepub.ru/files/a7.jpg" TargetMode="External"/><Relationship Id="rId6" Type="http://schemas.openxmlformats.org/officeDocument/2006/relationships/hyperlink" Target="http://portal.do.mrsu.ru/upload/medialibrary/2bf/buhzrvmailgcpn.jpg" TargetMode="External"/><Relationship Id="rId7" Type="http://schemas.openxmlformats.org/officeDocument/2006/relationships/hyperlink" Target="http://i.i.ua/photo/images/pic/8/8/3949988_fc032011.jpg" TargetMode="External"/><Relationship Id="rId8" Type="http://schemas.openxmlformats.org/officeDocument/2006/relationships/hyperlink" Target="http://i.i.ua/photo/images/pic/8/8/3949988_fc032011.jpg" TargetMode="External"/><Relationship Id="rId9" Type="http://schemas.openxmlformats.org/officeDocument/2006/relationships/hyperlink" Target="http://i.i.ua/photo/images/pic/8/8/3949988_fc032011.jpg" TargetMode="External"/><Relationship Id="rId10" Type="http://schemas.openxmlformats.org/officeDocument/2006/relationships/hyperlink" Target="http://i.i.ua/photo/images/pic/8/8/3949988_fc032011.jpg" TargetMode="External"/><Relationship Id="rId11" Type="http://schemas.openxmlformats.org/officeDocument/2006/relationships/hyperlink" Target="http://i.i.ua/photo/images/pic/8/8/3949988_fc032011.jpg" TargetMode="External"/><Relationship Id="rId12" Type="http://schemas.openxmlformats.org/officeDocument/2006/relationships/hyperlink" Target="http://i.i.ua/photo/images/pic/8/8/3949988_fc032011.jpg" TargetMode="External"/><Relationship Id="rId13" Type="http://schemas.openxmlformats.org/officeDocument/2006/relationships/hyperlink" Target="http://i.i.ua/photo/images/pic/8/8/3949988_fc032011.jpg" TargetMode="External"/><Relationship Id="rId14" Type="http://schemas.openxmlformats.org/officeDocument/2006/relationships/hyperlink" Target="http://i.i.ua/photo/images/pic/8/8/3949988_fc032011.jpg" TargetMode="External"/><Relationship Id="rId15" Type="http://schemas.openxmlformats.org/officeDocument/2006/relationships/hyperlink" Target="http://i.i.ua/photo/images/pic/8/8/3949988_fc032011.jpg" TargetMode="External"/><Relationship Id="rId16" Type="http://schemas.openxmlformats.org/officeDocument/2006/relationships/hyperlink" Target="http://i.i.ua/photo/images/pic/8/8/3949988_fc032011.jpg" TargetMode="External"/><Relationship Id="rId1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609120" y="3428640"/>
            <a:ext cx="80773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« Древнейшие народы на территории России»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304920"/>
            <a:ext cx="80010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стория России , 6 клас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a50021"/>
                </a:solidFill>
                <a:uFillTx/>
                <a:latin typeface="Arial"/>
              </a:rPr>
              <a:t>Ремесленники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– это люди, производившие различные изделия, орудия тру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чало распада первобытного обще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666880" y="1447920"/>
            <a:ext cx="3353040" cy="990360"/>
          </a:xfrm>
          <a:prstGeom prst="ellipse">
            <a:avLst/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деляется зн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029000">
            <a:off x="5790960" y="2057040"/>
            <a:ext cx="485640" cy="533520"/>
          </a:xfrm>
          <a:prstGeom prst="downArrow">
            <a:avLst>
              <a:gd name="adj1" fmla="val 43787"/>
              <a:gd name="adj2" fmla="val 43944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265000">
            <a:off x="2437920" y="2133720"/>
            <a:ext cx="486000" cy="533160"/>
          </a:xfrm>
          <a:prstGeom prst="downArrow">
            <a:avLst>
              <a:gd name="adj1" fmla="val 43787"/>
              <a:gd name="adj2" fmla="val 43881"/>
            </a:avLst>
          </a:pr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52280" y="2590920"/>
            <a:ext cx="243864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тарейши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590920"/>
            <a:ext cx="2590920" cy="838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ж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rot="10800000">
            <a:off x="2438280" y="2590560"/>
            <a:ext cx="3733920" cy="1081080"/>
          </a:xfrm>
          <a:custGeom>
            <a:avLst/>
            <a:gdLst>
              <a:gd name="textAreaLeft" fmla="*/ 0 w 3733920"/>
              <a:gd name="textAreaRight" fmla="*/ 3734280 w 3733920"/>
              <a:gd name="textAreaTop" fmla="*/ 0 h 1081080"/>
              <a:gd name="textAreaBottom" fmla="*/ 1081440 h 10810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ffcc99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функ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4920" y="3733920"/>
            <a:ext cx="8458200" cy="2743200"/>
          </a:xfrm>
          <a:custGeom>
            <a:avLst/>
            <a:gdLst>
              <a:gd name="textAreaLeft" fmla="*/ 323280 w 8458200"/>
              <a:gd name="textAreaRight" fmla="*/ 8134920 w 8458200"/>
              <a:gd name="textAreaTop" fmla="*/ 323280 h 2743200"/>
              <a:gd name="textAreaBottom" fmla="*/ 2419920 h 2743200"/>
            </a:gdLst>
            <a:ahLst/>
            <a:rect l="textAreaLeft" t="textAreaTop" r="textAreaRight" b="textAreaBottom"/>
            <a:pathLst>
              <a:path w="66594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62994" y="21600"/>
                </a:lnTo>
                <a:arcTo wR="3600" hR="3600" stAng="10800000" swAng="5400000"/>
                <a:lnTo>
                  <a:pt x="66594" y="3600"/>
                </a:lnTo>
                <a:arcTo wR="3600" hR="3600" stAng="5400000" swAng="5400000"/>
                <a:close/>
              </a:path>
            </a:pathLst>
          </a:cu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уководили  коллективными работ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онтролировали обмен с другими племен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едили за соблюдением установивших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яд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. Поднимали племя на защиту от врагов ( вожд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4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09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чало распада первобытного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05320" y="1638360"/>
            <a:ext cx="304560" cy="4914720"/>
          </a:xfrm>
          <a:custGeom>
            <a:avLst/>
            <a:gdLst>
              <a:gd name="textAreaLeft" fmla="*/ 0 w 304560"/>
              <a:gd name="textAreaRight" fmla="*/ 109800 w 304560"/>
              <a:gd name="textAreaTop" fmla="*/ 128160 h 4914720"/>
              <a:gd name="textAreaBottom" fmla="*/ 4786560 h 491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792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038480" y="1600200"/>
            <a:ext cx="4343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одовые узы ослабеваю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62720" y="2514600"/>
            <a:ext cx="68580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3200400"/>
            <a:ext cx="4724280" cy="1981080"/>
          </a:xfrm>
          <a:prstGeom prst="ellipse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смену приходи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оседск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 территориальная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23880" y="1447920"/>
            <a:ext cx="1920960" cy="510516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152280" y="152388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152280" y="3276720"/>
            <a:ext cx="1428840" cy="13906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52280" y="4876920"/>
            <a:ext cx="1428840" cy="139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Начало распада первобытного об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1676520"/>
            <a:ext cx="1676520" cy="761760"/>
          </a:xfrm>
          <a:prstGeom prst="flowChartPredefinedProcess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90920" y="1676520"/>
            <a:ext cx="1676160" cy="761760"/>
          </a:xfrm>
          <a:prstGeom prst="flowChartPredefinedProcess">
            <a:avLst/>
          </a:prstGeom>
          <a:solidFill>
            <a:srgbClr val="ccffcc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76920" y="1676520"/>
            <a:ext cx="1676160" cy="761760"/>
          </a:xfrm>
          <a:prstGeom prst="flowChartPredefinedProcess">
            <a:avLst/>
          </a:prstGeom>
          <a:solidFill>
            <a:srgbClr val="99cc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10280" y="1676520"/>
            <a:ext cx="1676520" cy="761760"/>
          </a:xfrm>
          <a:prstGeom prst="flowChartPredefinedProcess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л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3429000"/>
            <a:ext cx="8458200" cy="1219320"/>
          </a:xfrm>
          <a:custGeom>
            <a:avLst/>
            <a:gdLst>
              <a:gd name="textAreaLeft" fmla="*/ 143640 w 8458200"/>
              <a:gd name="textAreaRight" fmla="*/ 8314560 w 8458200"/>
              <a:gd name="textAreaTop" fmla="*/ 143640 h 1219320"/>
              <a:gd name="textAreaBottom" fmla="*/ 1075680 h 1219320"/>
            </a:gdLst>
            <a:ahLst/>
            <a:rect l="textAreaLeft" t="textAreaTop" r="textAreaRight" b="textAreaBottom"/>
            <a:pathLst>
              <a:path w="149797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146197" y="21600"/>
                </a:lnTo>
                <a:arcTo wR="3600" hR="3600" stAng="10800000" swAng="5400000"/>
                <a:lnTo>
                  <a:pt x="149797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 главе союзов встают люд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для которых управление и защи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воей земли является главным занят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rot="19776000">
            <a:off x="1371240" y="24523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452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257800" y="2452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2077200">
            <a:off x="7010280" y="2452680"/>
            <a:ext cx="486000" cy="976320"/>
          </a:xfrm>
          <a:prstGeom prst="down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48120" y="4648320"/>
            <a:ext cx="62388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52480" y="5334120"/>
            <a:ext cx="5639040" cy="1143000"/>
          </a:xfrm>
          <a:prstGeom prst="rect">
            <a:avLst/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авители, а на смену племен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ходит государ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20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599760" y="416880"/>
            <a:ext cx="7944480" cy="857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ем определе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a50021"/>
                </a:solidFill>
                <a:uFillTx/>
                <a:latin typeface="Arial"/>
              </a:rPr>
              <a:t>Государство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– это такая организация, при которой существует единая система управления людьми, проживающими на одной территории, единые законы, единая армия и единые меры длины, веса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реческие города-государства Северного Причерномор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04920" y="1371600"/>
            <a:ext cx="2666880" cy="180036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304920" y="3048120"/>
            <a:ext cx="259056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азвалины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льв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114440" y="13716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ервые государства возникла на юге нашей страны. В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II – V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. до н.э. на побережье Чёрного моря образовались города-государства Ольвия,Пантикапий, Херсонес и д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380880" y="3886200"/>
            <a:ext cx="2857680" cy="200016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80880" y="5791320"/>
            <a:ext cx="259092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антикап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реческие города-государства Северного Причерномор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733560" y="1523880"/>
            <a:ext cx="510516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лижайшими соседями греков в Причерноморье были ираноязычные племена – скифы, которые разделялись на скотоводческие и земледельческие. Скотоводы вели кочевой образ жизни, а скифы-земледельцы – осёдлы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380880" y="1600200"/>
            <a:ext cx="3200400" cy="43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реческие города-государства Северного Причерномор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ля противостояния захватчикам, скифские племена стали объединяться. Во главе сильного племени стоял царь. Так появилось Скифское государ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81080" y="1905120"/>
            <a:ext cx="4390920" cy="38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реческие города-государства Северного Причерномор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380880" y="4571640"/>
            <a:ext cx="83059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чиная с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II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ека до н.э. причерноморские племена подвергались вторжениям кочевых племён: сарматов, готов, гун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19320" y="1447920"/>
            <a:ext cx="2114280" cy="28191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 txBox="1"/>
          <p:nvPr/>
        </p:nvSpPr>
        <p:spPr>
          <a:xfrm>
            <a:off x="1447920" y="4267080"/>
            <a:ext cx="19810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сарматы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410080" y="1447920"/>
            <a:ext cx="3314880" cy="26463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6400800" y="4114800"/>
            <a:ext cx="137160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гунны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юркские народы и их государства на территории нашей стра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1066680" y="2724120"/>
            <a:ext cx="373392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тр. 10 - 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явление людей на территории современной Росс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явление земледелия, скотоводства и ремесл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чало распада первобытного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Греческие города- государства Северного Причерномор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Тюркские народы и их государства на территории нашей стран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тели лесной полосы Восточной Европ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04920" y="228600"/>
            <a:ext cx="8610480" cy="91440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Работаем по план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амостоятельная работ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рочитайте материал на стр. 12 - 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2143080" cy="3047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3"/>
          <a:stretch/>
        </p:blipFill>
        <p:spPr>
          <a:xfrm>
            <a:off x="2292480" y="3429000"/>
            <a:ext cx="22795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Проверим свои знания»                 стр. 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дведём итог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араграф 1, записи, термины, рабочая тетрад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img15.nnm.ru/9/4/4/b/3/ddd4ad01f1edce367324fb3edb0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polysxoloda.lghost.ru/images/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g.io.ua/img_aa/large/0146/62/01466205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altairepub.ru/files/a7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portal.do.mrsu.ru/upload/medialibrary/2bf/buhzrvmailgcpn.jp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:/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i.i.ua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photo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images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/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ic</a:t>
            </a: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/8/8/3949988_fc032011.jpg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4876920"/>
            <a:ext cx="7162920" cy="1600200"/>
          </a:xfrm>
          <a:custGeom>
            <a:avLst/>
            <a:gdLst>
              <a:gd name="textAreaLeft" fmla="*/ 188280 w 7162920"/>
              <a:gd name="textAreaRight" fmla="*/ 6974640 w 7162920"/>
              <a:gd name="textAreaTop" fmla="*/ 188280 h 1600200"/>
              <a:gd name="textAreaBottom" fmla="*/ 1411920 h 1600200"/>
            </a:gdLst>
            <a:ahLst/>
            <a:rect l="textAreaLeft" t="textAreaTop" r="textAreaRight" b="textAreaBottom"/>
            <a:pathLst>
              <a:path w="9667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93070" y="21600"/>
                </a:lnTo>
                <a:arcTo wR="3600" hR="3600" stAng="10800000" swAng="5400000"/>
                <a:lnTo>
                  <a:pt x="9667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Антоненкова Анжелика Викто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Учитель истории МОУ Будинской ОО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Древнейшие люди поселились на территории нашей страны с незапамятных времён. Примерно 700 тыс.лет назад они появились на Северном Кавказе и в районе реки Куба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ление людей на территории современной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393840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0" y="1447560"/>
            <a:ext cx="4191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Жизнь была полна опасностей и выжить в одиночку было очень трудно. Люди объединялись в небольшие группы по 20-30 человек. Они стали называться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Arial"/>
              </a:rPr>
              <a:t>человеческим стадом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ление людей на территории современной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28600" y="2057400"/>
            <a:ext cx="4648320" cy="32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647960" y="1447560"/>
            <a:ext cx="4343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коло 80 тыс. лет назад условия жизни резко изменились – наступило похолодание. На смену теплолюбивым животным пришли мамонты, бизоны, шерстистые носороги, северные олени, лошад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ление людей на территории современной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304920" y="1447920"/>
            <a:ext cx="4267080" cy="2739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42670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ление людей на территории современной Росс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80880" y="1447920"/>
            <a:ext cx="2357640" cy="2438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819520" y="1523880"/>
            <a:ext cx="60195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еловек с большим трудом училс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спосабливаться к изменившим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я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819520" y="2895480"/>
            <a:ext cx="6019560" cy="10670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смотря на суровые условия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лавяне стали расселяться всё дальш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 се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4114800"/>
            <a:ext cx="4191120" cy="99072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ервобытное человеческ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тад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4191120" cy="1066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одовая общи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724280" y="4648320"/>
            <a:ext cx="4191120" cy="1066680"/>
          </a:xfrm>
          <a:prstGeom prst="roundRect">
            <a:avLst>
              <a:gd name="adj" fmla="val 16667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лем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33720" y="510552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13987800">
            <a:off x="4557240" y="5728680"/>
            <a:ext cx="485640" cy="4572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86400" y="2590920"/>
            <a:ext cx="485640" cy="304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-14 тыс. лет назад в результате ледникового периода многие животные вымерли. И теперь человеку, занимающемуся только охотой и собирательством было трудно себя прокорми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ление земледелия, скотоводства и реме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285840" y="1828800"/>
            <a:ext cx="4286160" cy="36957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533520" y="5562720"/>
            <a:ext cx="35049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реконструкция славянского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осёлк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Из древнего собирательства на юге нашей страны 5-6 тыс. лет назад постепенно зарождается </a:t>
            </a:r>
            <a:r>
              <a:rPr b="1" lang="en-US" sz="2800" spc="-1" strike="noStrike" u="sng">
                <a:solidFill>
                  <a:srgbClr val="a50021"/>
                </a:solidFill>
                <a:uFillTx/>
                <a:latin typeface="Arial"/>
              </a:rPr>
              <a:t>земледелие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А на смену охоте приходит скотоводств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ление земледелия, скотоводства и реме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285840" y="1447920"/>
            <a:ext cx="4286160" cy="216216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304920" y="3809880"/>
            <a:ext cx="4267080" cy="27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 txBox="1"/>
          <p:nvPr/>
        </p:nvSpPr>
        <p:spPr>
          <a:xfrm>
            <a:off x="441720" y="411120"/>
            <a:ext cx="8336880" cy="823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явление земледелия, скотоводства и ремес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152280" y="4267080"/>
            <a:ext cx="3581640" cy="20908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152280" y="1447920"/>
            <a:ext cx="3581640" cy="26859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3809880" y="1447920"/>
            <a:ext cx="5029200" cy="1828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учившись работать с глин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ди ст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готавливать посу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809880" y="3429000"/>
            <a:ext cx="4953240" cy="1371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Женщины научились пряс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локна и шить одеж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тк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09880" y="4876920"/>
            <a:ext cx="4953240" cy="1676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Большие перемены в жиз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люд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оизошли, когда начала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работка мет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5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01-12-31T22:57:12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