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1D8-98B2-40C6-883A-F59B45B9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E11-E7CE-48AB-AEF2-513CCAF5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73C-3AE9-4F27-84DD-6F7C11BD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6C6-843E-439A-8CCB-6B2AFA00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4BB-C5BD-4D91-9FEE-FD664DBE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7074-36E1-40B7-9F30-0AA3FD55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101-A994-416C-9858-1D501B69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97A-F687-49A9-8907-84DE856E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0C9-38FC-4FC7-BF74-07AD9B94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0C4-3B0B-43ED-954D-AAD3263C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019-F5BD-4AE3-B303-39C2F027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D01-797E-4617-B3BF-707C938C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06C2-AC4C-4B48-BE1F-9FFE8049C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2743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« Индия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Государства и культура.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52280"/>
            <a:ext cx="8839440" cy="8384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тория Средних веков,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61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256680" y="256680"/>
            <a:ext cx="8325000" cy="62892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ана сказочных богат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4371840" cy="2622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3809880"/>
            <a:ext cx="4343400" cy="68580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рам Лотоса в Ин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2725560"/>
            <a:ext cx="4419720" cy="2700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0" y="5410080"/>
            <a:ext cx="4419720" cy="68580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8160" y="0"/>
            <a:ext cx="9220320" cy="6861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04400" y="256680"/>
            <a:ext cx="8782200" cy="62892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ана сказочных богатст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File:Taj Mahal, Agra, India edit2.jpg"/>
          <p:cNvPicPr/>
          <p:nvPr/>
        </p:nvPicPr>
        <p:blipFill>
          <a:blip r:embed="rId2"/>
          <a:stretch/>
        </p:blipFill>
        <p:spPr>
          <a:xfrm>
            <a:off x="0" y="1066680"/>
            <a:ext cx="4572000" cy="3006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4038480"/>
            <a:ext cx="4572000" cy="99072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Жемчужина Индии»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дж Мах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320040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0" y="5791320"/>
            <a:ext cx="4419720" cy="68580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дийские сл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61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23480" y="276120"/>
            <a:ext cx="8667720" cy="74304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у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0" y="1371240"/>
            <a:ext cx="4114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же с первых веков нашей эры в Индии пользовались десятеричной системой счисления — индийскими цифрами, которые сейчас применяются во всем мире (под названием «арабские»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4572000" cy="2239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4014720"/>
            <a:ext cx="44197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612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343400" y="1294920"/>
            <a:ext cx="4648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йский математик и астроном Арьябхата (начало VI в.) с высокой точностью определил число Пи. Он же высказал догадку, что Земля — шар, который вращается вокруг своей ос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3480" y="276120"/>
            <a:ext cx="8667720" cy="74304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у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3917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61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23480" y="276120"/>
            <a:ext cx="8667720" cy="74304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кус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8229600" cy="5456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5943600"/>
            <a:ext cx="8229600" cy="7621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йские пещерные храмы Аджа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61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23480" y="276120"/>
            <a:ext cx="8667720" cy="74304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кус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943600"/>
            <a:ext cx="8229600" cy="7621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йские пещерные храмы Аджа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3818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61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360" y="5334120"/>
            <a:ext cx="8915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VII—VIII веков индуистские храмы стали возводить в виде огромных башен. В Центральной Индии выросли целые храмовые городки, обне­сенные мощными каменными ограда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3480" y="276120"/>
            <a:ext cx="8667720" cy="74304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кус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4419720" cy="2827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572000" y="2743200"/>
            <a:ext cx="4191120" cy="2529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0" y="2286000"/>
            <a:ext cx="4114800" cy="83808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дийский храм "любви 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809880"/>
            <a:ext cx="4343400" cy="8384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ам Акшардхам в Инд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61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-360" y="441972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ульпторы представляли сцены из легенд и сказаний. Они великолепно изображали лю­дей и животных в движении. Вблизи храмов расположены статуи слонов и коней, а внутри — статуи многоруких богов, отлитые из бронзы или высеченные из камня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4416480" cy="2946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572000" y="1295280"/>
            <a:ext cx="4424400" cy="2944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0880" y="266400"/>
            <a:ext cx="8382240" cy="68616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кус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220320" cy="6861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360" y="480024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XIII века на архитектуру и живопись Индии оказало большое влияние искусство мусульманских завоевателей. Правители строили дворцы, мечети и роскошные гробницы — мавзоле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880" y="266400"/>
            <a:ext cx="8382240" cy="68616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кус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2703600" cy="3733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581280" y="1295280"/>
            <a:ext cx="4991400" cy="36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61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25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088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ндийские княже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торжение мусульм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ана сказочных богатст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у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скус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66400" y="266400"/>
            <a:ext cx="8534880" cy="68616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61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раграф 32, вопросы, сообщение о понравившемся архитектурном сооружении Индии, рабочая тетрад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612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indostan.ru/blog/foto-video/3278/104894_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baikal-eco.ru/photogallery/photos/78/img_0788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upload.wikimedia.org/wikipedia/commons/thumb/6/6b/Ahmad_Shah_Durrani_-_1747.jpg/798px-Ahmad_Shah_Durrani_-_1747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ru.wikipedia.org/wiki/%D2%E0%EC%E5%F0%EB%E0%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img-fotki.yandex.ru/get/5302/omyworld.59/0_69ad6_c7d08de6_XL.j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4419720"/>
            <a:ext cx="7696440" cy="220968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читель истории МОУ Будинская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66400" y="266400"/>
            <a:ext cx="8611200" cy="68616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дийские княж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3434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помните из курса истории Древнего мира, где находится Индия? Каковы её природные особенности и занятие насе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4351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61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343400" y="1294920"/>
            <a:ext cx="4648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VI—VII веках в Индии образовалось до 70 самостоятельных княжеств. Князья— раджи —жили в роскош­ных дворцах вместе со своими придворными, воинами и высшими чиновниками, разъезжали на специально обученных, в богатом убранстве слонах, которых держали и в своем войс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3760" y="266400"/>
            <a:ext cx="8610840" cy="68616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дийские княж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3870360" cy="5333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5943600"/>
            <a:ext cx="3886200" cy="6858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жа с суп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6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1640" y="121932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емля считалась собственностью государства. За пользование землей раджи собирали с крестьян налог. Часть земель раджа раздавал родственникам и приближенным за несение военной службы. Много земель получали брахманы, а также буддийские храмы и монастыр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2280" y="1209600"/>
            <a:ext cx="4341960" cy="488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13760" y="266400"/>
            <a:ext cx="8610840" cy="68616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дийские княж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943600"/>
            <a:ext cx="4419720" cy="6858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ах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152280"/>
            <a:ext cx="864864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ндийские княж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902040" cy="5288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47920" y="2666880"/>
            <a:ext cx="685800" cy="381240"/>
          </a:xfrm>
          <a:custGeom>
            <a:avLst/>
            <a:gdLst>
              <a:gd name="textAreaLeft" fmla="*/ 156600 w 685800"/>
              <a:gd name="textAreaRight" fmla="*/ 529200 w 685800"/>
              <a:gd name="textAreaTop" fmla="*/ 86760 h 381240"/>
              <a:gd name="textAreaBottom" fmla="*/ 294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Cyr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3962520"/>
            <a:ext cx="685800" cy="533160"/>
          </a:xfrm>
          <a:custGeom>
            <a:avLst/>
            <a:gdLst>
              <a:gd name="textAreaLeft" fmla="*/ 156600 w 685800"/>
              <a:gd name="textAreaRight" fmla="*/ 529200 w 68580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10080"/>
            <a:ext cx="533520" cy="457200"/>
          </a:xfrm>
          <a:custGeom>
            <a:avLst/>
            <a:gdLst>
              <a:gd name="textAreaLeft" fmla="*/ 121680 w 533520"/>
              <a:gd name="textAreaRight" fmla="*/ 411840 w 53352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Cyr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5638680"/>
            <a:ext cx="609480" cy="457200"/>
          </a:xfrm>
          <a:custGeom>
            <a:avLst/>
            <a:gdLst>
              <a:gd name="textAreaLeft" fmla="*/ 138960 w 609480"/>
              <a:gd name="textAreaRight" fmla="*/ 470520 w 6094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 Cyr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1676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1.Уста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рахм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25909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2.Руки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о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376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3.Бедра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мледель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0720" y="48340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4.Ступни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у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6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343400" y="12949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ачале VIII века арабы завоевали Синд — часть Западной Индии. После распада Багдадского халифата на Индию совершали разорительные набеги правители мусульманских государств, образовавшихся на территории нынешних Ирана, Афганистана и Средней Аз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66400" y="266400"/>
            <a:ext cx="8534880" cy="68616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торжение мусульм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917720"/>
            <a:ext cx="457200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6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267080" y="12949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начале XIII века из владений мусульман на севере Индии образовалось государство со столицей в Дели — Делийский султанат. Султаны подчинили большую часть Индии, присвоили земли изгнанных и истребленных во время войн индийских княз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3733920" cy="280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66400" y="266400"/>
            <a:ext cx="8458560" cy="68616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торжение мусульм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85800" y="4038480"/>
            <a:ext cx="38862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61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114440" y="129492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нчательный удар ослабевшему Делий­скому султанату нанесло в 1398 году вторжение войск Тимура — правителя Самарканда из Средней Азии, который наводил ужас на соседние народы. Всюду, где проходили его войска, они сеяли смерть и опустошение. Вступившие в Дели воины Тимура несколько дней грабили город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70360" y="270360"/>
            <a:ext cx="8450640" cy="70848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торжение мусульм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File:Teymur.jpg"/>
          <p:cNvPicPr/>
          <p:nvPr/>
        </p:nvPicPr>
        <p:blipFill>
          <a:blip r:embed="rId2"/>
          <a:stretch/>
        </p:blipFill>
        <p:spPr>
          <a:xfrm>
            <a:off x="304920" y="1295280"/>
            <a:ext cx="3600360" cy="5172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6019920"/>
            <a:ext cx="3886200" cy="6858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имур на пиру в Самаркан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2:47:1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