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F188-B6B0-4889-81ED-2B3A2F2CB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AD31-E87C-4236-B0D0-A783C551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AF39-854E-44D6-95C7-7C7033CE7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831C-301C-447F-8C5C-F93CA8AA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7C89-82FC-474F-ADFB-FE43719C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2E20-4A2A-4A34-B7AC-283A370F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9897-1D4D-452E-9206-FAF8F2A9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D296-3F6E-45A3-93CE-6AB37E6A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9DFF-D10D-4329-A69F-C25F14DB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3FAB-B93A-4930-BB06-F126EBA4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3C05-26F3-4562-86BF-3958E61C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93D3-77B3-436E-A826-12654F66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9FDC-D0B6-48D7-A937-3F8C77C36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frica.org.ua/map/af.jpg" TargetMode="External"/><Relationship Id="rId3" Type="http://schemas.openxmlformats.org/officeDocument/2006/relationships/hyperlink" Target="http://zabygrom.com/images/stories/article/africa-info1_01.jpg" TargetMode="External"/><Relationship Id="rId4" Type="http://schemas.openxmlformats.org/officeDocument/2006/relationships/hyperlink" Target="http://img-fotki.yandex.ru/get/4612/27749932.88/0_87ad6_d48b7750_orig" TargetMode="External"/><Relationship Id="rId5" Type="http://schemas.openxmlformats.org/officeDocument/2006/relationships/hyperlink" Target="http://www.da-club.ru/img/big/2704901001.jpg" TargetMode="External"/><Relationship Id="rId6" Type="http://schemas.openxmlformats.org/officeDocument/2006/relationships/hyperlink" Target="http://www.runivers.ru/images/date/2010_november/14/g.jpg" TargetMode="External"/><Relationship Id="rId7" Type="http://schemas.openxmlformats.org/officeDocument/2006/relationships/hyperlink" Target="http://www.runivers.ru/images/date/2010_november/14/g.jpg" TargetMode="External"/><Relationship Id="rId8" Type="http://schemas.openxmlformats.org/officeDocument/2006/relationships/hyperlink" Target="http://www.runivers.ru/images/date/2010_november/14/g.jpg" TargetMode="External"/><Relationship Id="rId9" Type="http://schemas.openxmlformats.org/officeDocument/2006/relationships/hyperlink" Target="http://www.runivers.ru/images/date/2010_november/14/g.jpg" TargetMode="External"/><Relationship Id="rId10" Type="http://schemas.openxmlformats.org/officeDocument/2006/relationships/hyperlink" Target="http://www.runivers.ru/images/date/2010_november/14/g.jpg" TargetMode="External"/><Relationship Id="rId11" Type="http://schemas.openxmlformats.org/officeDocument/2006/relationships/hyperlink" Target="http://www.runivers.ru/images/date/2010_november/14/g.jpg" TargetMode="External"/><Relationship Id="rId12" Type="http://schemas.openxmlformats.org/officeDocument/2006/relationships/hyperlink" Target="http://www.runivers.ru/images/date/2010_november/14/g.jpg" TargetMode="External"/><Relationship Id="rId13" Type="http://schemas.openxmlformats.org/officeDocument/2006/relationships/hyperlink" Target="http://www.runivers.ru/images/date/2010_november/14/g.jpg" TargetMode="External"/><Relationship Id="rId14" Type="http://schemas.openxmlformats.org/officeDocument/2006/relationships/hyperlink" Target="http://www.runivers.ru/images/date/2010_november/14/g.jpg" TargetMode="External"/><Relationship Id="rId15" Type="http://schemas.openxmlformats.org/officeDocument/2006/relationships/hyperlink" Target="http://cs411623.userapi.com/v411623610/ba9/iG7lE9RccEU.jpg" TargetMode="External"/><Relationship Id="rId16" Type="http://schemas.openxmlformats.org/officeDocument/2006/relationships/hyperlink" Target="http://cs411623.userapi.com/v411623610/ba9/iG7lE9RccEU.jpg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18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8600" y="31240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Arial"/>
              </a:rPr>
              <a:t>« Африка: континент в эпоху перемен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80"/>
            <a:ext cx="8686800" cy="990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овая история, 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638680"/>
            <a:ext cx="7924680" cy="990720"/>
          </a:xfrm>
          <a:prstGeom prst="rect">
            <a:avLst/>
          </a:prstGeom>
          <a:gradFill rotWithShape="0">
            <a:gsLst>
              <a:gs pos="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нтоненкова А.В., учитель истории МОУ Будинской О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вер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376920" y="300240"/>
            <a:ext cx="8390160" cy="8924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аздел Афр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419360" y="129528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овавым кошмаром называли работорговлю, продолжавшуюся до середин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 Она стоила народам Африки потери не менее 100 млн. человек. Крупнейшими базами работорговли стали первые колонии Португалии - Ангола и Мозамб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4343400" cy="2914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28600" y="3657600"/>
            <a:ext cx="43434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0" y="144756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70-х гг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 усилился процесс завоевания глубинных территорий Африки. Борьба за полный ее раздел европейскими державами привела к появлению «французской», «британской», «германской» Африки и т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99760" y="2944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аздел Афр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3778200" cy="4952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80880" y="6019920"/>
            <a:ext cx="3810240" cy="83808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дел Егип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карикатур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371160" y="294480"/>
            <a:ext cx="847800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аздел Афр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1640" y="1371240"/>
            <a:ext cx="4343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 1900 г. Территориальный раздел завершился, в руках колонизаторов находилось более 90% территории Африканского континента. Независимость удалось сохранить лишь Либерии и Эфиопии. Однако первая стала сферой влияния США, а вторая – Англии, Франции и Итал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52280" y="1371600"/>
            <a:ext cx="3195720" cy="32194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28600" y="1371600"/>
            <a:ext cx="3276720" cy="38088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бе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333440" y="4429080"/>
            <a:ext cx="3238560" cy="2428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95280" y="4419720"/>
            <a:ext cx="3276720" cy="38088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фиоп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191120" y="1523880"/>
            <a:ext cx="44956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Цветок из европейских сад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учебнику:                      стр. 24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Эфиопия – страна, оставшаяся самостоятель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267080" y="1600200"/>
            <a:ext cx="4724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Эфиопи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ка господствовали феодальные отношения. Здесь по-прежнему сохранялось домашнее рабство и пережитки родоплеменного стро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4114800" cy="3058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990720" y="3124080"/>
            <a:ext cx="1828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Эфиоп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Эфиопия – страна, оставшаяся самостоятель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5049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4038480" cy="2722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419360" y="144792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50-х годах в Эфиопии появился Касса – сын мелкопоместного феодала. Собрав армию, он нанёс поражение правителям отдельных княжеств. В 1855 г. он провозгласил себя императором под именем Фёдора                       ( Теодорос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04920" y="4191120"/>
            <a:ext cx="3886200" cy="2590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28600" y="3886200"/>
            <a:ext cx="3962520" cy="68580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фиоп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Эфиопия – страна, оставшаяся самостоятель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66960" y="1447920"/>
            <a:ext cx="5410080" cy="9144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дя к власти, Теодорос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2362320"/>
            <a:ext cx="4856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3080" y="2819520"/>
            <a:ext cx="84582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ъединил земли и покончил с междоусобиц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3080" y="3809880"/>
            <a:ext cx="84582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здал многочисленную и дисциплинированн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рм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3080" y="4800600"/>
            <a:ext cx="84582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меньшил поборы с сельского населения и соб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сударственные доходы в своих ру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3080" y="5791320"/>
            <a:ext cx="84582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прещалась работорговля; ослабело могущ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рк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Европейская колониз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560" y="236232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читайте материал на стр. 242-243 и приведите факты, раскрывающие влияние европейской колонизации на развитие Афр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380880" y="304200"/>
            <a:ext cx="8305920" cy="91476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осстание гереро и готтент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дной из ярких и трагических страниц в летописи борьбы африканцев за свободу и независимость стали события в Юго-Западной Афр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52280" y="2133720"/>
            <a:ext cx="4419720" cy="3666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52280" y="5715000"/>
            <a:ext cx="4419720" cy="83808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стание гереро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ттенто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осстание гереро и готтенто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4419720" cy="31626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4920" y="48002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январе 1904 г. началось восстание, продлившееся до 1907 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562720" y="1523880"/>
            <a:ext cx="30477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инственный контин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ультуры и религии Афр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дел Афр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веток из европейских садов на африканской поч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фиопия – страна, оставшаяся самостоятель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вропейская колониза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сстание гереро и готтенто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71160" y="2944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аботаем по план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просы на стр. 2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араграф 30, записи, вопро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frica.org.ua/map/af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zabygrom.com/images/stories/article/africa-info1_0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g-fotki.yandex.ru/get/4612/27749932.88/0_87ad6_d48b7750_or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da-club.ru/img/big/2704901001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runivers.ru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image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date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/2010_november/14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g.jpg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://cs411623.userapi.com/v411623610/ba9/iG7lE9RccEU.jpg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работе использованы ресур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800240" y="129528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ке Африка переживала большие потрясения: европейские страны, используя преимущества индустриальной революции, делят континент на сферы своего влия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9960" y="285480"/>
            <a:ext cx="834408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аинственный контине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41385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23920" y="1599840"/>
            <a:ext cx="3962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то давала колония европейским страна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ынки сбы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озможность обогати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148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аинственный контине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2280" y="1447920"/>
            <a:ext cx="4191120" cy="2541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28600" y="4038480"/>
            <a:ext cx="411480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038120" y="1371240"/>
            <a:ext cx="4876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начал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ка африканский континент населяли различные народности:</a:t>
            </a: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рабы,              зулусы, кафры, готтентоты, бушмены,  мальгаши. Все эти народы находились на разном уровне развит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76280" y="285480"/>
            <a:ext cx="830592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Таинственный контине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3733920" cy="2449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28600" y="3886200"/>
            <a:ext cx="373392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343400" y="1371600"/>
            <a:ext cx="4572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гмеи,жили небольшими группами в лесах по течению реки Конго и принадлежали к числу наиболее отсталых народов мира. Они занимались рыболовством и охотой в строго определённой охотничьей террит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85480" y="285480"/>
            <a:ext cx="857304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аинственный контине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52280" y="4038480"/>
            <a:ext cx="4038840" cy="2605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52280" y="1219320"/>
            <a:ext cx="4038840" cy="27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09880" y="1600200"/>
            <a:ext cx="5029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 многих африканских народов высокого развития достигла культура земледе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10320" y="309960"/>
            <a:ext cx="844704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аинственный континен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52280" y="1447920"/>
            <a:ext cx="3505320" cy="2566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952880" y="3733920"/>
            <a:ext cx="4038840" cy="290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28600" y="4191120"/>
            <a:ext cx="46483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обенно выращивание кофе, арахиса, какао-боб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Культы и религии Афр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1600200"/>
            <a:ext cx="3809880" cy="228600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знакомьтес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амостоятель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 этим материа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стр. 239- 2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3733560" cy="2533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04920" y="4267080"/>
            <a:ext cx="3504960" cy="2274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800600" y="4038480"/>
            <a:ext cx="394344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267080" y="1447920"/>
            <a:ext cx="4648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вшиеся еще в конц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V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 колониальные захваты тяжело отразились на жизни африканских народов. Нарушались традиционные торговые связи, колониальные войны приводили к разрушению местных промыслов, а  иногда  и   к  гибели  целых  государст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99400" y="416880"/>
            <a:ext cx="81730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аздел Афр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52280" y="1600200"/>
            <a:ext cx="4419720" cy="3390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52280" y="5029200"/>
            <a:ext cx="4419720" cy="12952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дел Афр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вропейск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судар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2-01-01T01:14:2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