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ECE-44D9-4238-98B0-EF4100B1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70A-39AC-4EAD-8783-74F8064D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ED4-29D2-429F-B522-16BE4B13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F25-E883-4BF7-B46C-9513081E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4C8-D221-4ED7-AA2F-D63A93A7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D70-E091-4B10-9A72-7EFB9EF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DC2-5BD1-4567-BC58-E8DFF6B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C64-7332-41F7-8D59-87B89251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F2A-8E2F-4FD7-90CA-73516DCB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BFF-FDD1-4C44-8CF4-EE0ECB8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27E-1300-458C-A4A4-FA83C5C7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110-222D-48C9-8E44-FF0B679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8542-0351-43EC-B624-857F779C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frica.org.ua/map/af.jpg" TargetMode="External"/><Relationship Id="rId3" Type="http://schemas.openxmlformats.org/officeDocument/2006/relationships/hyperlink" Target="http://zabygrom.com/images/stories/article/africa-info1_01.jpg" TargetMode="External"/><Relationship Id="rId4" Type="http://schemas.openxmlformats.org/officeDocument/2006/relationships/hyperlink" Target="http://img-fotki.yandex.ru/get/4612/27749932.88/0_87ad6_d48b7750_orig" TargetMode="External"/><Relationship Id="rId5" Type="http://schemas.openxmlformats.org/officeDocument/2006/relationships/hyperlink" Target="http://www.da-club.ru/img/big/2704901001.jpg" TargetMode="External"/><Relationship Id="rId6" Type="http://schemas.openxmlformats.org/officeDocument/2006/relationships/hyperlink" Target="http://www.runivers.ru/images/date/2010_november/14/g.jpg" TargetMode="External"/><Relationship Id="rId7" Type="http://schemas.openxmlformats.org/officeDocument/2006/relationships/hyperlink" Target="http://www.runivers.ru/images/date/2010_november/14/g.jpg" TargetMode="External"/><Relationship Id="rId8" Type="http://schemas.openxmlformats.org/officeDocument/2006/relationships/hyperlink" Target="http://www.runivers.ru/images/date/2010_november/14/g.jpg" TargetMode="External"/><Relationship Id="rId9" Type="http://schemas.openxmlformats.org/officeDocument/2006/relationships/hyperlink" Target="http://www.runivers.ru/images/date/2010_november/14/g.jpg" TargetMode="External"/><Relationship Id="rId10" Type="http://schemas.openxmlformats.org/officeDocument/2006/relationships/hyperlink" Target="http://www.runivers.ru/images/date/2010_november/14/g.jpg" TargetMode="External"/><Relationship Id="rId11" Type="http://schemas.openxmlformats.org/officeDocument/2006/relationships/hyperlink" Target="http://www.runivers.ru/images/date/2010_november/14/g.jpg" TargetMode="External"/><Relationship Id="rId12" Type="http://schemas.openxmlformats.org/officeDocument/2006/relationships/hyperlink" Target="http://www.runivers.ru/images/date/2010_november/14/g.jpg" TargetMode="External"/><Relationship Id="rId13" Type="http://schemas.openxmlformats.org/officeDocument/2006/relationships/hyperlink" Target="http://www.runivers.ru/images/date/2010_november/14/g.jpg" TargetMode="External"/><Relationship Id="rId14" Type="http://schemas.openxmlformats.org/officeDocument/2006/relationships/hyperlink" Target="http://www.runivers.ru/images/date/2010_november/14/g.jpg" TargetMode="External"/><Relationship Id="rId15" Type="http://schemas.openxmlformats.org/officeDocument/2006/relationships/hyperlink" Target="http://cs411623.userapi.com/v411623610/ba9/iG7lE9RccEU.jpg" TargetMode="External"/><Relationship Id="rId16" Type="http://schemas.openxmlformats.org/officeDocument/2006/relationships/hyperlink" Target="http://cs411623.userapi.com/v411623610/ba9/iG7lE9RccEU.jpg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 Африка: континент в эпоху переме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76920" y="30024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ел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419360" y="12952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авым кошмаром называли работорговлю, продолжавшуюся до серед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Она стоила народам Африки потери не менее 100 млн. человек. Крупнейшими базами работорговли стали первые колонии Португалии - Ангола и Мозам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343400" cy="291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343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70-х г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усилился процесс завоевания глубинных территорий Африки. Борьба за полный ее раздел европейскими державами привела к появлению «французской», «британской», «германской» Африк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здел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778200" cy="4952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6019920"/>
            <a:ext cx="3810240" cy="8380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 Ег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карикату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ел Афр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16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1900 г. Территориальный раздел завершился, в руках колонизаторов находилось более 90% территории Африканского континента. Независимость удалось сохранить лишь Либерии и Эфиопии. Однако первая стала сферой влияния США, а вторая – Англии, Франции и И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3195720" cy="321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371600"/>
            <a:ext cx="327672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б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33440" y="442908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4419720"/>
            <a:ext cx="327672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Цветок из европейских са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                     стр. 2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фиоп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господствовали феодальные отношения. Здесь по-прежнему сохранялось домашнее рабство и пережитки родоплеменного стр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114800" cy="3058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90720" y="3124080"/>
            <a:ext cx="182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фиоп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038480" cy="2722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1936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50-х годах в Эфиопии появился Касса – сын мелкопоместного феодала. Собрав армию, он нанёс поражение правителям отдельных княжеств. В 1855 г. он провозгласил себя императором под именем Фёдора                       ( Теодоро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388620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3886200"/>
            <a:ext cx="3962520" cy="6858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6960" y="1447920"/>
            <a:ext cx="541008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я к власти, Теодоро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3623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3080" y="281952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динил земли и покончил с междоусоб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380988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л многочисленную и дисциплинирова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480060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ил поборы с сельского населения и соб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ударственные доходы в своих ру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579132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ещалась работорговля; ослабело мог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Европейская колон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42-243 и приведите факты, раскрывающие влияние европейской колонизации на развитие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0880" y="304200"/>
            <a:ext cx="8305920" cy="91476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сстание гереро и готтент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й из ярких и трагических страниц в летописи борьбы африканцев за свободу и независимость стали события в Юго-Западной Аф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419720" cy="3666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5715000"/>
            <a:ext cx="4419720" cy="8380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стание герер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ттент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сстание гереро и готтент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419720" cy="3162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48002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январе 1904 г. началось восстание, продлившееся до 1907 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3047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инственный контин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льтуры и религии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к из европейских садов на африканской поч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вропейская колон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 гереро и готтен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на стр. 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30, записи, 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frica.org.ua/map/af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zabygrom.com/images/stories/article/africa-info1_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4612/27749932.88/0_87ad6_d48b7750_o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da-club.ru/img/big/2704901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runivers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dat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2010_november/14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.jp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cs411623.userapi.com/v411623610/ba9/iG7lE9RccEU.jp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е Африка переживала большие потрясения: европейские страны, используя преимущества индустриальной революции, делят континент на сферы своего в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138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давала колония европейским стран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ынки сб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можность обогат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254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41148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038120" y="13712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начал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африканский континент населяли различные народности: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абы,              зулусы, кафры, готтентоты, бушмены,  мальгаши. Все эти народы находились на разном уровне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733920" cy="244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37339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3716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гмеи,жили небольшими группами в лесах по течению реки Конго и принадлежали к числу наиболее отсталых народов мира. Они занимались рыболовством и охотой в строго определённой охотничье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4038480"/>
            <a:ext cx="4038840" cy="260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403884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многих африканских народов высокого развития достигла культура земле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3505320" cy="2566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952880" y="3733920"/>
            <a:ext cx="4038840" cy="290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4191120"/>
            <a:ext cx="4648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 выращивание кофе, арахиса, какао-бо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ульты и религии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600200"/>
            <a:ext cx="3809880" cy="22860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знакомьте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эти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стр. 239-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733560" cy="2533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3504960" cy="2274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3943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670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вшиеся еще в конц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колониальные захваты тяжело отразились на жизни африканских народов. Нарушались традиционные торговые связи, колониальные войны приводили к разрушению местных промыслов, а  иногда  и   к  гибели  целых  государ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здел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419720" cy="3390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5029200"/>
            <a:ext cx="4419720" cy="12952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 Аф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удар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01-01T01:14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