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C755-2353-4934-99C9-56DD09C6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18BA-F290-400C-8A9C-AEAEAFB6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07F-0FBC-406E-AAC5-67D3830C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FCA7-9640-478D-8F30-B8AFBCFA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092-C203-439B-A66D-B6BAF709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F61-E375-4E5D-ACA2-E766F101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CF98-8704-4435-BFCA-978B3F74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A52C-446C-4024-8FA7-D49EDF41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C46-27E3-42E9-BC84-358AA483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18D4-6795-49FF-974F-C7ECD369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3D7-9860-4B67-9832-1ED9C5AD0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39D-2214-4287-A570-A9ED4501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5C50-D438-460F-8748-7E6B1957CF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Образование и философ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333360"/>
            <a:ext cx="8642160" cy="863640"/>
          </a:xfrm>
          <a:prstGeom prst="bevel">
            <a:avLst>
              <a:gd name="adj" fmla="val 12500"/>
            </a:avLst>
          </a:prstGeom>
          <a:solidFill>
            <a:srgbClr val="008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стория Средних веков, 6 кла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пишем опреде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Arial"/>
              </a:rPr>
              <a:t>Профессор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– преподаватель в университет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504d"/>
                </a:solidFill>
                <a:uFillTx/>
                <a:latin typeface="Arial"/>
              </a:rPr>
              <a:t>Студент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( от лат. студере - «усердно заниматься»)  - человек, который получает знания в университет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Запишем определения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Факультет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объединение по предмета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Декан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глава факульт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c0504d"/>
                </a:solidFill>
                <a:uFillTx/>
                <a:latin typeface="Arial"/>
              </a:rPr>
              <a:t>Ректор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– глава университе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ычно в университетах было три факультета: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богословский, юридическ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en-US" sz="2800" spc="-1" strike="noStrike">
                <a:solidFill>
                  <a:srgbClr val="c0504d"/>
                </a:solidFill>
                <a:latin typeface="Arial"/>
              </a:rPr>
              <a:t>медицински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Занятия вели магистры, которые читали книги, а студенты запоминал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032000" cy="2443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50920" y="3789360"/>
            <a:ext cx="41050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1640" y="1341000"/>
            <a:ext cx="432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Средневековые школы и университеты. Часть 4"/>
          <p:cNvPicPr/>
          <p:nvPr/>
        </p:nvPicPr>
        <p:blipFill>
          <a:blip r:embed="rId2"/>
          <a:stretch/>
        </p:blipFill>
        <p:spPr>
          <a:xfrm>
            <a:off x="250920" y="1628640"/>
            <a:ext cx="4176720" cy="3997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6000" y="14130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екции дополнялись диспутами – словесными поединками. Это были состязании в знаниях и красноречии по заранее поставленному вопрос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Схолас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708000" y="1412640"/>
            <a:ext cx="52563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XI – XIII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веках в соборных школах и университетах расцветала новая религия –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схоластика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 ( от греч. « схолэ» - школа)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File:Thomas Aquinas in Stained Glass.jpg"/>
          <p:cNvPicPr/>
          <p:nvPr/>
        </p:nvPicPr>
        <p:blipFill>
          <a:blip r:embed="rId2"/>
          <a:stretch/>
        </p:blipFill>
        <p:spPr>
          <a:xfrm>
            <a:off x="395280" y="1413000"/>
            <a:ext cx="30970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68360" y="1557360"/>
            <a:ext cx="3400200" cy="41292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140000" y="1341000"/>
            <a:ext cx="45464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Одним из известных философов схоластов был француз Пьер Абеляр. С 1117 года он начинает преподавать в Парижской соборной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84720" y="1341000"/>
            <a:ext cx="440208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В 1119 г. началась его любовь к Элоизы, окончившаяся трагедией: напавшие на него люди изувечили его, а Элоиза ушла в монастыр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589720"/>
            <a:ext cx="403236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ьер Абеляр и Элои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" descr="File:Heloïse et d'Abélard.jpg"/>
          <p:cNvPicPr/>
          <p:nvPr/>
        </p:nvPicPr>
        <p:blipFill>
          <a:blip r:embed="rId2"/>
          <a:stretch/>
        </p:blipFill>
        <p:spPr>
          <a:xfrm>
            <a:off x="395280" y="1268280"/>
            <a:ext cx="35402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95280" y="1341360"/>
            <a:ext cx="47530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а Абеляра обрушились его идейные противники, одним из которых был знаменитый мистик, создатель ордена тапмлиеров Бернар Клерво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" descr="File:Heiligenkreuz.Bernard of Clervaux.jpg"/>
          <p:cNvPicPr/>
          <p:nvPr/>
        </p:nvPicPr>
        <p:blipFill>
          <a:blip r:embed="rId2"/>
          <a:stretch/>
        </p:blipFill>
        <p:spPr>
          <a:xfrm>
            <a:off x="539640" y="1268280"/>
            <a:ext cx="33116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24000" y="1268280"/>
            <a:ext cx="4114800" cy="51087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1341360"/>
            <a:ext cx="4248000" cy="3456000"/>
          </a:xfrm>
          <a:prstGeom prst="wedgeEllipseCallout">
            <a:avLst>
              <a:gd name="adj1" fmla="val -82662"/>
              <a:gd name="adj2" fmla="val 27675"/>
            </a:avLst>
          </a:prstGeom>
          <a:solidFill>
            <a:srgbClr val="ffffff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 Нужно верить, а не рассуждать. Вера должна быть простой и искренней, идти от сердца, а не от рассудка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ьер Абеляр и Бернар Клервоск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раги Абеляра добились того, что на церковном соборе 1121 г. он собственноручно бросил свою книгу в костё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04760" y="1844640"/>
            <a:ext cx="446724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Работаем по плану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редставления о мире расширяю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ереводы с греческого и арабско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редневековые университ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холасти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Пьер Абеляр и Бернар Клервоск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« Ангельский докто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« Ангельский доктор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0" y="1413000"/>
            <a:ext cx="41148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ершиной средневековой схоластики были труды учёного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III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 Фомы Аквинского. Самая знаменитая его книга – « Сумма богословия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388296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Фома Аквинск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н создал свою картину всей христианской Вселенной, показывая, что у каждой детали своё место в жизни и соя роль, предназначенная Бог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36082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ождер Бэ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оджер Бэкон – монах ордена францисканцев, преподавал в университетах Оксфорда и Парижа.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24000" y="1523880"/>
            <a:ext cx="424800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Calibri"/>
              </a:rPr>
              <a:t>Рождер Бэк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Он доказывал, что для познания истины авторитета и разума недостаточно, нужны ещё наблюдения и опы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85840" y="1413000"/>
            <a:ext cx="4286160" cy="44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Игра « Крестики – нолики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00000" y="1600200"/>
          <a:ext cx="7786800" cy="4525920"/>
        </p:xfrm>
        <a:graphic>
          <a:graphicData uri="http://schemas.openxmlformats.org/drawingml/2006/table">
            <a:tbl>
              <a:tblPr/>
              <a:tblGrid>
                <a:gridCol w="2595600"/>
                <a:gridCol w="2595600"/>
                <a:gridCol w="2595600"/>
              </a:tblGrid>
              <a:tr h="192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             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6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Параграф 27, вопросы, 7 вопрос - письмен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1520" y="1197000"/>
            <a:ext cx="821844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 шаблона: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 учитель физи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У СОШ №20 п. Баранчинский, г. Кушва, Свердловской обл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Рисунок для фона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 http://prosto-life.ru/prostyie-istorii/o-svyataya-prostota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картинки: -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images.rambler.ru/search?query=%D0%9C%D0%BE%D1%80%D0%BA%D0%BE+%D0%BF%D0%BE%D0%BB%D0%BE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http://www.wholehistory.ru/Srednie-veka/srednevekovye-shkoly-i-universitety-page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/>
          <p:nvPr/>
        </p:nvSpPr>
        <p:spPr>
          <a:xfrm>
            <a:off x="2050920" y="4653000"/>
            <a:ext cx="6624720" cy="1584360"/>
          </a:xfrm>
          <a:prstGeom prst="ellipse">
            <a:avLst/>
          </a:prstGeom>
          <a:gradFill rotWithShape="0">
            <a:gsLst>
              <a:gs pos="0">
                <a:srgbClr val="007500"/>
              </a:gs>
              <a:gs pos="50000">
                <a:srgbClr val="00ff00"/>
              </a:gs>
              <a:gs pos="100000">
                <a:srgbClr val="0075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ия о мире расширяются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очитайте материал на стр.208 и ответьте на вопрос: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« Благодаря чему расширялись представления людей о мире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39272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редставления о мире расширяются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40000" y="1484280"/>
            <a:ext cx="4762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Яркий рассказ о странах Дальнего Востока оставил венецианский купец и путешественник Марко Поло, который более 25 лет прожил в Китае. По возвращении на родину написал           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Calibri"/>
              </a:rPr>
              <a:t>« Книгу Марко Поло»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39640" y="1428840"/>
            <a:ext cx="3560760" cy="4808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9640" y="5661000"/>
            <a:ext cx="3743280" cy="79056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Марко По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ереводы с греческого и арабского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24360" y="1197000"/>
            <a:ext cx="4751280" cy="38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Жители Западной Европы 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V – 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х почти забыли греческий язык и вовсе не стремились знать восточные язык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95280" y="1290600"/>
            <a:ext cx="2736720" cy="21384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42920" y="3645000"/>
            <a:ext cx="3094200" cy="2187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5508720" y="4724280"/>
            <a:ext cx="315108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Calibri"/>
              </a:rPr>
              <a:t>Переводы с греческого и арабског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413000"/>
            <a:ext cx="440208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1844640"/>
            <a:ext cx="453384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6360" y="1341360"/>
            <a:ext cx="417672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I – XII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еках появилось большое количество переводов на латинский язык книг греческих и арабских учёных. Круг знаний европейцев расширился и обогатил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284720" y="1484280"/>
            <a:ext cx="4325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Средневековое общество было корпоративным, т.е. Каждый человек имел свою, чётко очерченную «нишу», входил в ту или иную корпор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39640" y="1185840"/>
            <a:ext cx="337356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0504d"/>
                </a:solidFill>
                <a:uFillTx/>
                <a:latin typeface="Arial"/>
              </a:rPr>
              <a:t>Корпорация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– это обособленная группа людей, которые занимаются определённым общим делом, живут соответствующим ему образом, подчиняются особым правилам и распорядка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alibri"/>
              </a:rPr>
              <a:t>Средневековые университ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066920" y="1267920"/>
            <a:ext cx="4537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ниверситеты представляли собой корпорации людей интеллектуального труда – профессоров и студентов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4869000"/>
            <a:ext cx="3527280" cy="792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Средневек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университе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Средневековые школы и университеты. Часть 3"/>
          <p:cNvPicPr/>
          <p:nvPr/>
        </p:nvPicPr>
        <p:blipFill>
          <a:blip r:embed="rId2"/>
          <a:stretch/>
        </p:blipFill>
        <p:spPr>
          <a:xfrm>
            <a:off x="324000" y="2128680"/>
            <a:ext cx="352728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17:15Z</dcterms:modified>
  <cp:revision>6</cp:revision>
  <dc:subject/>
  <dc:title>Заголовок слайда</dc:title>
</cp:coreProperties>
</file>