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18B08-F730-4159-B408-ECDE94311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0726C-058F-4556-AD01-6FD6C72B0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2156C-2457-4355-9F9C-E36E57BE8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BD23B-EA9C-42A4-B061-E28945721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80593-F57F-4802-8C2C-67DE49CE5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56EC1-6259-4CCA-BD95-0CCE430F5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954CC-1AFD-4C23-9503-933FC7CB0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6B6AB-ACEE-4849-9AE4-AAA7B5281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6E171-E10C-499D-9097-50022848D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E55D2-20DB-4F84-A7FA-260CDF67A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F9BD6-5C29-4735-9A2B-38881FF8A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C6A74-4478-4433-86E9-6D90B3C62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75"/>
            </a:gs>
            <a:gs pos="50000">
              <a:srgbClr val="0099ff"/>
            </a:gs>
            <a:gs pos="100000">
              <a:srgbClr val="0046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9A743-AF3F-4388-8351-A174E20513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4675"/>
            </a:gs>
            <a:gs pos="50000">
              <a:srgbClr val="0099ff"/>
            </a:gs>
            <a:gs pos="100000">
              <a:srgbClr val="0046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Тема урока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09480" y="2666880"/>
            <a:ext cx="74678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« Италия: время реформ и колониальных захватов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52280"/>
            <a:ext cx="8763120" cy="106704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Новая история 8 клас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75"/>
            </a:gs>
            <a:gs pos="50000">
              <a:srgbClr val="0099ff"/>
            </a:gs>
            <a:gs pos="100000">
              <a:srgbClr val="0046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267080" y="1523880"/>
            <a:ext cx="4572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Вопросом жизни и смерти для молодой итальянской буржуазии стал вопрос о внешних рынках: страна ввозила большое количество зерна, вывоз отставал. Их лозунгом становится « мирное экономическое проникновение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28600" y="0"/>
            <a:ext cx="8686800" cy="13716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« Мирное экономическое проникновение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304920" y="1447920"/>
            <a:ext cx="3733560" cy="27511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304920" y="4214880"/>
            <a:ext cx="3733560" cy="26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75"/>
            </a:gs>
            <a:gs pos="50000">
              <a:srgbClr val="0099ff"/>
            </a:gs>
            <a:gs pos="100000">
              <a:srgbClr val="0046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4114800" y="1523880"/>
            <a:ext cx="5029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Он был малопригоден для управления страной, но стремился к территориальным захватам.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1882 год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 –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вступление в Тройственный союз в надежде отобрать у Франции Савойю и Ницц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В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1900 г.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король был застрелен анархистом, считавшим Умберто I виновным в нищете итальянского наро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28600" y="152280"/>
            <a:ext cx="8610480" cy="12193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Плата за отсталость страны - эмиграц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52280" y="1523880"/>
            <a:ext cx="383220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75"/>
            </a:gs>
            <a:gs pos="50000">
              <a:srgbClr val="0099ff"/>
            </a:gs>
            <a:gs pos="100000">
              <a:srgbClr val="0046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266720" y="1600200"/>
            <a:ext cx="4419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990 год – вступление на престол нового короля Виктора Эммануила III (1869—1947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Усиливая меры безопасности, он в то же время стремился ослабить репресс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28600"/>
            <a:ext cx="8229600" cy="11430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Виктор Эммануил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I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2835" t="3667" r="5670" b="15015"/>
          <a:stretch/>
        </p:blipFill>
        <p:spPr>
          <a:xfrm>
            <a:off x="303120" y="1598760"/>
            <a:ext cx="3813120" cy="48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75"/>
            </a:gs>
            <a:gs pos="50000">
              <a:srgbClr val="0099ff"/>
            </a:gs>
            <a:gs pos="100000">
              <a:srgbClr val="0046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647960" y="160020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Прочитайте п. на стр. 177 – 178 и выписать реформы, которые провёл Джованни Джолитт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228600"/>
            <a:ext cx="8229600" cy="11430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Эра « Джолитти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304920" y="1447920"/>
            <a:ext cx="4010040" cy="52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75"/>
            </a:gs>
            <a:gs pos="50000">
              <a:srgbClr val="0099ff"/>
            </a:gs>
            <a:gs pos="100000">
              <a:srgbClr val="0046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152280" y="1600200"/>
            <a:ext cx="8763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85000" indent="-58500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Увеличивается численность армии и флот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1870-е гг. XIX в. - сделана попытка овладеть Тунис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 80-х гг. главным направлением колониальных захватов стала Северо-Восточная Африк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1885 г. - захват города Массауа на Африканском побережье Красного моря. Появилась первая колония — Эритре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228600"/>
            <a:ext cx="8229600" cy="11430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Колониальные авантюр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75"/>
            </a:gs>
            <a:gs pos="50000">
              <a:srgbClr val="0099ff"/>
            </a:gs>
            <a:gs pos="100000">
              <a:srgbClr val="0046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 1888 г. - Италия объявила свой протекторат над Сомал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. 1895 - 1896 гг. - война за Эфиопию (сокрушительное поражение Италии - величайший национальный позор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7. 1900 г. - Италия приняла участие в подавлении боксерского восстания в Кита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. 1911-1912 гг. - Итало-турецкая война (победа Италии: Триполи и Киренаика стали итальянской колонией Ливией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28600"/>
            <a:ext cx="8229600" cy="11430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Колониальные авантюр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75"/>
            </a:gs>
            <a:gs pos="50000">
              <a:srgbClr val="0099ff"/>
            </a:gs>
            <a:gs pos="100000">
              <a:srgbClr val="0046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648320" y="1599840"/>
            <a:ext cx="4495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Прочитайте материал на стр. 178 – 179 и ответьте на вопрос: к какому блоку присоединилась Италия и почем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28600" y="228600"/>
            <a:ext cx="8229600" cy="11430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Между двумя блокам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228600" y="1600200"/>
            <a:ext cx="404352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75"/>
            </a:gs>
            <a:gs pos="50000">
              <a:srgbClr val="0099ff"/>
            </a:gs>
            <a:gs pos="100000">
              <a:srgbClr val="0046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Вопросы на стр.17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28600" y="228600"/>
            <a:ext cx="8229600" cy="11430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Подведение итога уро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75"/>
            </a:gs>
            <a:gs pos="50000">
              <a:srgbClr val="0099ff"/>
            </a:gs>
            <a:gs pos="100000">
              <a:srgbClr val="0046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Параграф 23, вопросы. запис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28600" y="228600"/>
            <a:ext cx="8229600" cy="11430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Домашнее зада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75"/>
            </a:gs>
            <a:gs pos="50000">
              <a:srgbClr val="0099ff"/>
            </a:gs>
            <a:gs pos="100000">
              <a:srgbClr val="0046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http://images.rambler.ru/search?query=%D0%A3%D0%BC%D0%B1%D0%B5%D1%80%D0%BD%D0%BE+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http://ru.wikipedia.org/wiki/%D0%98%D1%82%D0%B0%D0%BB%D0%B8%D1%8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28600" y="228600"/>
            <a:ext cx="8229600" cy="11430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Ресурс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438280" y="4038480"/>
            <a:ext cx="6400800" cy="2438640"/>
          </a:xfrm>
          <a:prstGeom prst="flowChartPredefinedProcess">
            <a:avLst/>
          </a:prstGeom>
          <a:gradFill rotWithShape="0">
            <a:gsLst>
              <a:gs pos="0">
                <a:srgbClr val="566768"/>
              </a:gs>
              <a:gs pos="50000">
                <a:srgbClr val="bbe0e3"/>
              </a:gs>
              <a:gs pos="100000">
                <a:srgbClr val="56676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нтоненкова Анжелика Викторо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читель истории МОУ Будинской ОО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Тверская обла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4675"/>
            </a:gs>
            <a:gs pos="50000">
              <a:srgbClr val="0099ff"/>
            </a:gs>
            <a:gs pos="100000">
              <a:srgbClr val="0046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Цена объедин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Конституционный путь монарх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Мучительный путь развития сельского хозяйст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Развитие монополистического капитализм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Движения протеста в стран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Колониальные авантюр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Между двумя блок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228600"/>
            <a:ext cx="8229600" cy="11430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Работаем по плану 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75"/>
            </a:gs>
            <a:gs pos="50000">
              <a:srgbClr val="0099ff"/>
            </a:gs>
            <a:gs pos="100000">
              <a:srgbClr val="0046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Как вы думаете какую цену итальянцы заплатили за создание единого государств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228600"/>
            <a:ext cx="8229600" cy="11430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Цена объединения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File:It-map-ru.jpg"/>
          <p:cNvPicPr/>
          <p:nvPr/>
        </p:nvPicPr>
        <p:blipFill>
          <a:blip r:embed="rId1"/>
          <a:stretch/>
        </p:blipFill>
        <p:spPr>
          <a:xfrm>
            <a:off x="228600" y="1523880"/>
            <a:ext cx="418932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75"/>
            </a:gs>
            <a:gs pos="50000">
              <a:srgbClr val="0099ff"/>
            </a:gs>
            <a:gs pos="100000">
              <a:srgbClr val="0046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28600" y="228600"/>
            <a:ext cx="8229600" cy="11430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Цена объединения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1523520"/>
            <a:ext cx="8229600" cy="1143000"/>
          </a:xfrm>
          <a:prstGeom prst="rect">
            <a:avLst/>
          </a:prstGeom>
          <a:gradFill rotWithShape="0">
            <a:gsLst>
              <a:gs pos="0">
                <a:srgbClr val="5e7575"/>
              </a:gs>
              <a:gs pos="100000">
                <a:srgbClr val="cc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вое объединение Италия встретила страной очень бед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51920" y="2819160"/>
            <a:ext cx="8991720" cy="3886200"/>
          </a:xfrm>
          <a:prstGeom prst="rect">
            <a:avLst/>
          </a:prstGeom>
          <a:solidFill>
            <a:srgbClr val="ffcc99"/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ве войны с Австрие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громные расходы на содержание армии и флот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Государство взяло на себя огромные долги упраздненных монарх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трана не имела тяжелой промышленност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 деревне господствовали феодальные отноше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громная масса населения была неграмотн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 политической жизни господствовали абсолютизм, церковь и аристократия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75"/>
            </a:gs>
            <a:gs pos="50000">
              <a:srgbClr val="0099ff"/>
            </a:gs>
            <a:gs pos="100000">
              <a:srgbClr val="0046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Итальянская конституционная монарх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90440" y="6248520"/>
            <a:ext cx="876312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 Италии шел процесс создания политических парт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10760" y="714240"/>
            <a:ext cx="1375560" cy="4597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Король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749040" y="990720"/>
            <a:ext cx="1643760" cy="3988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Парламен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334120" y="1828800"/>
            <a:ext cx="3504960" cy="265428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Палата депутатов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епутаты избиралис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ужчинам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остигшими 25 ле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81080" y="1905120"/>
            <a:ext cx="3276720" cy="1922760"/>
          </a:xfrm>
          <a:prstGeom prst="rect">
            <a:avLst/>
          </a:prstGeom>
          <a:solidFill>
            <a:srgbClr val="ff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Сенат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енаторы назначалис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оролем пожизнен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5600" y="4572000"/>
            <a:ext cx="4589640" cy="3988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Господство католической религ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90440" y="5105520"/>
            <a:ext cx="8763120" cy="1008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871 г. - король подписал закон, объявлявший папу личностью священной и неприкосновенной, но его территориальные владения ограничивались Ватикан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62720" y="4114800"/>
            <a:ext cx="7451640" cy="398880"/>
          </a:xfrm>
          <a:prstGeom prst="rect">
            <a:avLst/>
          </a:prstGeom>
          <a:solidFill>
            <a:srgbClr val="ccffff"/>
          </a:solidFill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онституция провозглашала все демократические пра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733920" y="1447920"/>
            <a:ext cx="838080" cy="45720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410080" y="1447920"/>
            <a:ext cx="1067040" cy="45720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76320" y="1295280"/>
            <a:ext cx="1746000" cy="18338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0" y="331488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Виктор Эммануил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75"/>
            </a:gs>
            <a:gs pos="50000">
              <a:srgbClr val="0099ff"/>
            </a:gs>
            <a:gs pos="100000">
              <a:srgbClr val="0046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266760" y="1752120"/>
            <a:ext cx="8610480" cy="52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Крупные арендаторы использовали труд батраков и поденщико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Развивались три главные отрасли сельского хозяйства: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производство зерна; выращивание и переработка оливок, винограда, цитрусовых; скотоводство и связанные с ним промысл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Постепенно уменьшалась доля населения, занятого в сельском хозяйств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04920" y="0"/>
            <a:ext cx="8534160" cy="12193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Мучительное развитие с/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828800" y="1523880"/>
            <a:ext cx="4572000" cy="762120"/>
          </a:xfrm>
          <a:prstGeom prst="ellipse">
            <a:avLst/>
          </a:prstGeom>
          <a:gradFill rotWithShape="0">
            <a:gsLst>
              <a:gs pos="0">
                <a:srgbClr val="566768"/>
              </a:gs>
              <a:gs pos="50000">
                <a:srgbClr val="bbe0e3"/>
              </a:gs>
              <a:gs pos="100000">
                <a:srgbClr val="56676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Север Итали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75"/>
            </a:gs>
            <a:gs pos="50000">
              <a:srgbClr val="0099ff"/>
            </a:gs>
            <a:gs pos="100000">
              <a:srgbClr val="0046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380880" y="2743200"/>
            <a:ext cx="8382240" cy="368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Господство латифунди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Развитие процесса обезземеливания и полного разорения крестьян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Крестьяне-бедняки жили в условиях ужасающей нищет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Город не мог дать работу этим людям, и они вынуждены были эмигрирова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228600"/>
            <a:ext cx="8229600" cy="11430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Мучительное развитие с/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828800" y="1523880"/>
            <a:ext cx="4495680" cy="1067040"/>
          </a:xfrm>
          <a:prstGeom prst="ellipse">
            <a:avLst/>
          </a:prstGeom>
          <a:gradFill rotWithShape="0">
            <a:gsLst>
              <a:gs pos="0">
                <a:srgbClr val="566768"/>
              </a:gs>
              <a:gs pos="50000">
                <a:srgbClr val="bbe0e3"/>
              </a:gs>
              <a:gs pos="100000">
                <a:srgbClr val="56676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Юг  и Центральна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часть Итали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75"/>
            </a:gs>
            <a:gs pos="50000">
              <a:srgbClr val="0099ff"/>
            </a:gs>
            <a:gs pos="100000">
              <a:srgbClr val="0046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Низкая покупательная способность промышленных товаров у нищих крестьян, составлявших большинство населения стра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Узкий внутренний рынок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Слабая и малочисленная промышленная буржуаз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Неконкурентоспособность итальянских товаров на мировом рынк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Недостаток природных ресурс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олитическая неустойчивость (кровавые бунты, вызванные бедностью, неграмотностью, общим озлоблением народа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28600" y="152280"/>
            <a:ext cx="8229600" cy="12193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Развитие монополистического капитализм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75"/>
            </a:gs>
            <a:gs pos="50000">
              <a:srgbClr val="0099ff"/>
            </a:gs>
            <a:gs pos="100000">
              <a:srgbClr val="0046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4419720" y="1219320"/>
            <a:ext cx="4572000" cy="5486400"/>
          </a:xfrm>
          <a:prstGeom prst="rect">
            <a:avLst/>
          </a:prstGeom>
          <a:noFill/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Быстро развивалась тяжелая промышленнос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Выделились промышленные цент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С 1900 г. по 1914 г. вдвое увеличились число промышленных предприятий и рабочих и выпуск промышленной продукции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Росли биржи, банк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Создание крупные корпор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440" y="228600"/>
            <a:ext cx="8763120" cy="825480"/>
          </a:xfrm>
          <a:prstGeom prst="rect">
            <a:avLst/>
          </a:prstGeom>
          <a:noFill/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Активное вмешательство государства в экономическую жизнь стран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52280" y="1600200"/>
            <a:ext cx="4038840" cy="4972680"/>
          </a:xfrm>
          <a:prstGeom prst="rect">
            <a:avLst/>
          </a:prstGeom>
          <a:noFill/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Привлечение иностранного капитал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Введение льготных пошлин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Создание государственных монополий по обработке табака, добыче соли и п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Строительство железных дорог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Введение государственного страхова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Выход на мировой рынок («мирное экономическое проникновение»)</a:t>
            </a: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666880" y="1143000"/>
            <a:ext cx="0" cy="45720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3352680" y="4572000"/>
            <a:ext cx="1067040" cy="7632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4038120" y="6324480"/>
            <a:ext cx="381240" cy="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01-12-31T23:34:18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