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2C8-EBF6-40E4-8E26-7D3A3420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481-AC4F-4057-8530-7EC5138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62A-0853-4F33-8F94-BA3189F5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602-6890-4F82-99A9-78773CE1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6CD-41F1-493A-8D7F-19D74F2D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F91-9BAB-41C1-A2A1-BD0EE22C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1D7-EB29-427C-9BC2-D12B5508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253-83DC-4541-B5C3-622DED1A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9F3-0E18-4FB5-800E-EB0256DF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69B-E216-46BF-93A1-2ACD2DEC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FB7-DA8A-4EB3-9516-0C6863A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F45-34C4-4E50-9D1F-9D4F9273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8BB-7325-4547-86E3-E0DEB24C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search?query=&#1075;&#1074;&#1077;&#1083;&#1100;&#1092;&#1099;" TargetMode="External"/><Relationship Id="rId3" Type="http://schemas.openxmlformats.org/officeDocument/2006/relationships/hyperlink" Target="http://ru.wikipedia.org/wiki/%CC%E5%E4%E8%F7%E8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7391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Расцвет итальянских город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440" y="152280"/>
            <a:ext cx="876312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Средних веков, 6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Тира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правитель, захвативший власть, правитель-деспот, угнет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Тирани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правление, основанное на произволе  и насил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5160" y="376560"/>
            <a:ext cx="8161560" cy="89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ишем опре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800600" y="16765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Флоренции после долгой и жестокой борьбы между несколькими семьями власть захватила семья Медичи – богатейшие банкиры и куп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5160" y="376560"/>
            <a:ext cx="8161560" cy="89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ление Медичи во Флор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Файл:FlorenceMap1494.png"/>
          <p:cNvPicPr/>
          <p:nvPr/>
        </p:nvPicPr>
        <p:blipFill>
          <a:blip r:embed="rId2"/>
          <a:stretch/>
        </p:blipFill>
        <p:spPr>
          <a:xfrm>
            <a:off x="152280" y="2057400"/>
            <a:ext cx="48769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03812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шего могущества власть Медичи достигла при Лоренцо Великолепном, который твёрдо и единолично управлял государством. Он утверждал верных ему людей на должности, распоряжался казной, принимал по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41720" y="365040"/>
            <a:ext cx="826056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ление Медичей во Флор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019920"/>
            <a:ext cx="3505320" cy="609480"/>
          </a:xfrm>
          <a:prstGeom prst="rect">
            <a:avLst/>
          </a:prstGeom>
          <a:solidFill>
            <a:srgbClr val="bbe0e3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ренцо Меди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495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ренцо жил в роскошном дворце, в окружении выдающихся произведений искусства, всячески поддерживал художников, учёных, пис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ление Медичей во Фло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File:Coat of arms of the House of de' Medici.png"/>
          <p:cNvPicPr/>
          <p:nvPr/>
        </p:nvPicPr>
        <p:blipFill>
          <a:blip r:embed="rId2"/>
          <a:stretch/>
        </p:blipFill>
        <p:spPr>
          <a:xfrm>
            <a:off x="457200" y="1523880"/>
            <a:ext cx="3371760" cy="4305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5867280"/>
            <a:ext cx="3657600" cy="609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б Меди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99400" y="416880"/>
            <a:ext cx="824940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599400" y="416880"/>
            <a:ext cx="824940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4, вопросы, записи, рабочая тетра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и: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rambler.ru/search?query=%D0%B3%D0%B2%D0%B5%D0%BB%D1%8C%D1%84%D1%8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16thline.livejournal.com/671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CC%E5%E4%E8%F7%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191120"/>
            <a:ext cx="6172200" cy="2438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развивались итальянские гор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тесь с гвельфами и гибеллинами, выясните, почему они противостояли друг другу и кого поддержив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то такие Медичи и как они правили во Флорен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вы узнае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ородские республики в Итал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вельфы и гибел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авление Медичей во Флорен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редние века Италия состояла из многих отдельных государств, возрождались римские города и строились новые. Расцвету итальянских городов способствовали отношения с крестонос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8120" y="437760"/>
            <a:ext cx="8420400" cy="8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родские республики в Ит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380988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733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– X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торговцы и ремесленники многих городов вступают борьбу с сеньорами-графами, епископами. Милан, Пиза, Болонья, Флоренция добились прав коммуны, которая превращалась в город-государство или городскую республ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304200"/>
            <a:ext cx="8534880" cy="91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родские республики в Ит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8862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388620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бившись независимости, горожане начали борьбу с феодалами на своей территории. Они разрушали замки, переселяли дворян из города, лишая их права участвовать в делах комму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1800" y="361440"/>
            <a:ext cx="8496720" cy="8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родские республики в Ит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860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52388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время многолетней борьбы пап с императорами в Италии сложились две враждебные друг другу политические группы –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вельф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ибел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4840" y="294480"/>
            <a:ext cx="84016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вельфы и гибел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261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3962160" cy="2303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3886200"/>
            <a:ext cx="4038480" cy="4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вельфы и гибел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70800" y="294480"/>
            <a:ext cx="824940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вельфы и гибел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447920"/>
            <a:ext cx="41148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упп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43400">
            <a:off x="2666880" y="2057400"/>
            <a:ext cx="457200" cy="595440"/>
          </a:xfrm>
          <a:prstGeom prst="downArrow">
            <a:avLst>
              <a:gd name="adj1" fmla="val 50000"/>
              <a:gd name="adj2" fmla="val 32559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34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8950400">
            <a:off x="5714640" y="2057040"/>
            <a:ext cx="457200" cy="595440"/>
          </a:xfrm>
          <a:prstGeom prst="downArrow">
            <a:avLst>
              <a:gd name="adj1" fmla="val 50000"/>
              <a:gd name="adj2" fmla="val 32559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80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666880"/>
            <a:ext cx="3200400" cy="609840"/>
          </a:xfrm>
          <a:prstGeom prst="flowChartTerminator">
            <a:avLst/>
          </a:prstGeom>
          <a:gradFill rotWithShape="0">
            <a:gsLst>
              <a:gs pos="0">
                <a:srgbClr val="89c99d"/>
              </a:gs>
              <a:gs pos="100000">
                <a:srgbClr val="3f5c4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вель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2666880"/>
            <a:ext cx="3200400" cy="609840"/>
          </a:xfrm>
          <a:prstGeom prst="flowChartTerminator">
            <a:avLst/>
          </a:prstGeom>
          <a:gradFill rotWithShape="0">
            <a:gsLst>
              <a:gs pos="0">
                <a:srgbClr val="89c99d"/>
              </a:gs>
              <a:gs pos="100000">
                <a:srgbClr val="3f5c4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бел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276720"/>
            <a:ext cx="457200" cy="595080"/>
          </a:xfrm>
          <a:prstGeom prst="downArrow">
            <a:avLst>
              <a:gd name="adj1" fmla="val 50000"/>
              <a:gd name="adj2" fmla="val 32539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276720"/>
            <a:ext cx="457200" cy="595080"/>
          </a:xfrm>
          <a:prstGeom prst="downArrow">
            <a:avLst>
              <a:gd name="adj1" fmla="val 50000"/>
              <a:gd name="adj2" fmla="val 32539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886200"/>
            <a:ext cx="3505320" cy="990720"/>
          </a:xfrm>
          <a:prstGeom prst="flowChartPreparation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ники па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3886200"/>
            <a:ext cx="3505320" cy="990720"/>
          </a:xfrm>
          <a:prstGeom prst="flowChartPreparation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п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876920"/>
            <a:ext cx="457200" cy="595080"/>
          </a:xfrm>
          <a:prstGeom prst="downArrow">
            <a:avLst>
              <a:gd name="adj1" fmla="val 50000"/>
              <a:gd name="adj2" fmla="val 32539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4876920"/>
            <a:ext cx="457200" cy="595080"/>
          </a:xfrm>
          <a:prstGeom prst="downArrow">
            <a:avLst>
              <a:gd name="adj1" fmla="val 50000"/>
              <a:gd name="adj2" fmla="val 32539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4191120" cy="12956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держивали торгов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ремесл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5410080"/>
            <a:ext cx="3733920" cy="12956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ирались на двор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743200"/>
            <a:ext cx="1981080" cy="485640"/>
          </a:xfrm>
          <a:prstGeom prst="leftRightArrow">
            <a:avLst>
              <a:gd name="adj1" fmla="val 50000"/>
              <a:gd name="adj2" fmla="val 81208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038120" y="13712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рода Северной и Средней Италии богатели. Итальянские купцы держали в своих руках торговлю с Востоком, их сукна считались самыми лучшими в Европе.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власть захватили самые богатые семьи и стали передавать её по наслед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4840" y="294480"/>
            <a:ext cx="84016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ление Медичей во Фло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3678480" cy="4495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5867280"/>
            <a:ext cx="3657600" cy="762120"/>
          </a:xfrm>
          <a:prstGeom prst="rect">
            <a:avLst/>
          </a:prstGeom>
          <a:solidFill>
            <a:srgbClr val="bbe0e3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лоренция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1:41:3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