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7B6D-2703-4D15-807D-770E9FB3E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E28-D6BE-45D5-97B8-F001025E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46F8-F75F-4D9B-BA1F-699103C8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88FE-14FC-47EB-88CA-3B052A7D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A659-3897-4680-9C47-75B61DCE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BC0-F747-420A-861B-D73465E7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9D9A-1E62-454F-B5EE-7049902D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301-03C5-4DF4-BCC1-CD46C846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E85B-241E-4429-A723-00A4802E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2D8D-A04A-4EBC-8178-974767E4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19C2-104A-4350-9EED-C5332580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682-1342-4FC3-853C-48C2B579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C170-A2E0-4FB1-92B5-600A3DC77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ic.academic.ru/dic.nsf/ruwiki/1037488" TargetMode="External"/><Relationship Id="rId3" Type="http://schemas.openxmlformats.org/officeDocument/2006/relationships/hyperlink" Target="http://topwar.ru/699-cmert-ix-remeslo.html" TargetMode="External"/><Relationship Id="rId4" Type="http://schemas.openxmlformats.org/officeDocument/2006/relationships/hyperlink" Target="http://bloger-iris.ru/post193806012/" TargetMode="External"/><Relationship Id="rId5" Type="http://schemas.openxmlformats.org/officeDocument/2006/relationships/hyperlink" Target="http://bloger-iris.ru/post193806012/" TargetMode="External"/><Relationship Id="rId6" Type="http://schemas.openxmlformats.org/officeDocument/2006/relationships/hyperlink" Target="http://bloger-iris.ru/post193806012/" TargetMode="External"/><Relationship Id="rId7" Type="http://schemas.openxmlformats.org/officeDocument/2006/relationships/hyperlink" Target="http://bloger-iris.ru/post193806012/" TargetMode="External"/><Relationship Id="rId8" Type="http://schemas.openxmlformats.org/officeDocument/2006/relationships/hyperlink" Target="http://abu-yunus.livejournal.com/140622.html" TargetMode="External"/><Relationship Id="rId9" Type="http://schemas.openxmlformats.org/officeDocument/2006/relationships/hyperlink" Target="http://abu-yunus.livejournal.com/140622.html" TargetMode="External"/><Relationship Id="rId10" Type="http://schemas.openxmlformats.org/officeDocument/2006/relationships/hyperlink" Target="http://abu-yunus.livejournal.com/140622.html" TargetMode="External"/><Relationship Id="rId11" Type="http://schemas.openxmlformats.org/officeDocument/2006/relationships/hyperlink" Target="http://abu-yunus.livejournal.com/140622.html" TargetMode="External"/><Relationship Id="rId12" Type="http://schemas.openxmlformats.org/officeDocument/2006/relationships/hyperlink" Target="http://images.rambler.ru/search?query=&#1064;&#1072;&#1084;&#1080;&#1083;&#1100;" TargetMode="External"/><Relationship Id="rId13" Type="http://schemas.openxmlformats.org/officeDocument/2006/relationships/hyperlink" Target="http://images.rambler.ru/search?query=&#1064;&#1072;&#1084;&#1080;&#1083;&#1100;" TargetMode="External"/><Relationship Id="rId14" Type="http://schemas.openxmlformats.org/officeDocument/2006/relationships/hyperlink" Target="http://images.rambler.ru/search?query=&#1064;&#1072;&#1084;&#1080;&#1083;&#1100;" TargetMode="External"/><Relationship Id="rId15" Type="http://schemas.openxmlformats.org/officeDocument/2006/relationships/hyperlink" Target="http://images.rambler.ru/search?query=&#1064;&#1072;&#1084;&#1080;&#1083;&#1100;" TargetMode="External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28195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84720"/>
                </a:solidFill>
                <a:latin typeface="Arial"/>
              </a:rPr>
              <a:t>«Внешняя политика Николая </a:t>
            </a:r>
            <a:r>
              <a:rPr b="1" lang="en-US" sz="5400" spc="-1" strike="noStrike">
                <a:solidFill>
                  <a:srgbClr val="a84720"/>
                </a:solidFill>
                <a:latin typeface="Arial"/>
              </a:rPr>
              <a:t>I</a:t>
            </a:r>
            <a:r>
              <a:rPr b="1" lang="ru-RU" sz="5400" spc="-1" strike="noStrike">
                <a:solidFill>
                  <a:srgbClr val="a84720"/>
                </a:solidFill>
                <a:latin typeface="Arial"/>
              </a:rPr>
              <a:t> 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8686800" cy="990720"/>
          </a:xfrm>
          <a:prstGeom prst="bevel">
            <a:avLst>
              <a:gd name="adj" fmla="val 12500"/>
            </a:avLst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стория России,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876920" y="16002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лучив известие о событиях в Петербурге 1825 г., иранский шах решил вернуть территории, отошедшие к России по договору 1813г. В этом его активно поддерживала Анг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Штурм крепости Ереван русскими войсками 1 октября 1827 г. Литография К. Беггерова по рисунку В. Мошкова."/>
          <p:cNvPicPr/>
          <p:nvPr/>
        </p:nvPicPr>
        <p:blipFill>
          <a:blip r:embed="rId2"/>
          <a:stretch/>
        </p:blipFill>
        <p:spPr>
          <a:xfrm>
            <a:off x="228600" y="1523880"/>
            <a:ext cx="4495680" cy="3275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76920" y="376560"/>
            <a:ext cx="8466480" cy="892440"/>
          </a:xfrm>
          <a:prstGeom prst="rect">
            <a:avLst/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усско-иранская война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26 – 1828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580920" y="1447560"/>
            <a:ext cx="5410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ступление иранской армии началось неожиданно. Прежде чем главноуправляющий на Кавказе генерал Ермолов успел принять меры, противник захватил  Закавказье и двинулся в Восточную Грузию. Но уже через месяц Ермолов полностью освободил захваченные территории и перенёс войну на территорию Ира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76560" y="376560"/>
            <a:ext cx="8161560" cy="892440"/>
          </a:xfrm>
          <a:prstGeom prst="rect">
            <a:avLst/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усско-иранская войн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826 – 1828 г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3235320" cy="3962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5562720"/>
            <a:ext cx="3581280" cy="761760"/>
          </a:xfrm>
          <a:prstGeom prst="rect">
            <a:avLst/>
          </a:prstGeom>
          <a:solidFill>
            <a:srgbClr val="ffff99"/>
          </a:solidFill>
          <a:ln w="34920">
            <a:solidFill>
              <a:srgbClr val="a84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ей Пет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рм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160" y="51055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76560" y="376560"/>
            <a:ext cx="8161560" cy="892440"/>
          </a:xfrm>
          <a:prstGeom prst="rect">
            <a:avLst/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усско-иранская войн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826 – 1828 г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00600" y="14475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вым главнокомандующим был назначен И.Ф. Паскевич, который принял решение наступать. Вскоре дорога на Тегеран была открыта. Шах вынужден был согласиться на мир, предложенный Росс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3406680" cy="4838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5791320"/>
            <a:ext cx="3581640" cy="761760"/>
          </a:xfrm>
          <a:prstGeom prst="rect">
            <a:avLst/>
          </a:prstGeom>
          <a:solidFill>
            <a:srgbClr val="ffff99"/>
          </a:solidFill>
          <a:ln w="34920">
            <a:solidFill>
              <a:srgbClr val="a84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ван Фёдо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ск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800600" y="14475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заключённому мирному договору к России отошли Ереванское и Нахичеванское ханство, признавалось  исключительно еправо России иметь военный флот на Каспии. Шах должен был заплатить 20 млн. рублей. Эти события развязали руки Никола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 отношении Тур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91040" y="300240"/>
            <a:ext cx="8161560" cy="892440"/>
          </a:xfrm>
          <a:prstGeom prst="rect">
            <a:avLst/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усско-иранская война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26 – 1828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4648320" cy="3247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28600" y="5410080"/>
            <a:ext cx="4572000" cy="1143000"/>
          </a:xfrm>
          <a:prstGeom prst="rect">
            <a:avLst/>
          </a:prstGeom>
          <a:solidFill>
            <a:srgbClr val="ffff99"/>
          </a:solidFill>
          <a:ln w="34920">
            <a:solidFill>
              <a:srgbClr val="a84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лючение Туркманчай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ра 10 февраля 1828 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160" y="51055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76560" y="376560"/>
            <a:ext cx="8161560" cy="892440"/>
          </a:xfrm>
          <a:prstGeom prst="rect">
            <a:avLst/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усско-турецкая война 1828 – 1829 г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24280" y="1523880"/>
            <a:ext cx="4267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азу после окончания войны с Ираном, Россия объявила войну Турции. Боевые действия развернулись и на Балканах, и на Кавказ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5029200"/>
            <a:ext cx="3733920" cy="762120"/>
          </a:xfrm>
          <a:prstGeom prst="rect">
            <a:avLst/>
          </a:prstGeom>
          <a:solidFill>
            <a:srgbClr val="ffff99"/>
          </a:solidFill>
          <a:ln w="34920">
            <a:solidFill>
              <a:srgbClr val="a84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ско-турец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28 – 1829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Boevoj epizod 1828-1829.jpg"/>
          <p:cNvPicPr/>
          <p:nvPr/>
        </p:nvPicPr>
        <p:blipFill>
          <a:blip r:embed="rId2"/>
          <a:stretch/>
        </p:blipFill>
        <p:spPr>
          <a:xfrm>
            <a:off x="228600" y="1523880"/>
            <a:ext cx="434340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160" y="51055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6560" y="376560"/>
            <a:ext cx="8161560" cy="892440"/>
          </a:xfrm>
          <a:prstGeom prst="rect">
            <a:avLst/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усско-турецкая война 1828 – 1829 г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0-тысячная армия Витгеншнейна  заняла Дунайское княжество и блокировала крепость Анапу. Паскевич двинулся к Карсу. Лишь в Закавказье сопутствовал успех: были взяты Анапа, Сухум-Кале, По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Pjotr-christianowitsch-wittgenstein.jpg"/>
          <p:cNvPicPr/>
          <p:nvPr/>
        </p:nvPicPr>
        <p:blipFill>
          <a:blip r:embed="rId2"/>
          <a:stretch/>
        </p:blipFill>
        <p:spPr>
          <a:xfrm>
            <a:off x="380880" y="1523880"/>
            <a:ext cx="3949920" cy="4648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80880" y="5867280"/>
            <a:ext cx="3886200" cy="762120"/>
          </a:xfrm>
          <a:prstGeom prst="rect">
            <a:avLst/>
          </a:prstGeom>
          <a:solidFill>
            <a:srgbClr val="ffff99"/>
          </a:solidFill>
          <a:ln w="34920">
            <a:solidFill>
              <a:srgbClr val="a84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ётр Христи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тгенштей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51055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6920" y="376560"/>
            <a:ext cx="8313840" cy="892440"/>
          </a:xfrm>
          <a:prstGeom prst="rect">
            <a:avLst/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усско-турецкая война 1828 – 1829 г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 мая 1829 года новый главнокомандующий балканской армией генерал Дибич И.И. Дал генеральное сражение, закончившееся разгромом и бегством турецкой армии. Вскоре он уже был у ворот Константиноп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845160" cy="4419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0880" y="5867280"/>
            <a:ext cx="3886200" cy="762120"/>
          </a:xfrm>
          <a:prstGeom prst="rect">
            <a:avLst/>
          </a:prstGeom>
          <a:solidFill>
            <a:srgbClr val="ffff99"/>
          </a:solidFill>
          <a:ln w="34920">
            <a:solidFill>
              <a:srgbClr val="a84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ван Ивано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бич - Забалка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160" y="51055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6560" y="376560"/>
            <a:ext cx="8161560" cy="892440"/>
          </a:xfrm>
          <a:prstGeom prst="rect">
            <a:avLst/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усско-турецкая война 1828 – 1829 г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4724280"/>
            <a:ext cx="4419720" cy="762120"/>
          </a:xfrm>
          <a:prstGeom prst="rect">
            <a:avLst/>
          </a:prstGeom>
          <a:solidFill>
            <a:srgbClr val="ffff99"/>
          </a:solidFill>
          <a:ln w="34920">
            <a:solidFill>
              <a:srgbClr val="a84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Штурм крепости Ка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4343400" cy="3127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8006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84720"/>
                </a:solidFill>
                <a:latin typeface="Arial"/>
              </a:rPr>
              <a:t>2 сентября 1829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ода был подписан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Адрианопольский мирный догово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3581280"/>
            <a:ext cx="4038480" cy="175284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. 82 – выпис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тоги вой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читайте материал на стр. 82 и ответьте на вопро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 Что стало причинами обострения русско- английских отношений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бострение русско-английских противореч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9520" y="1523880"/>
            <a:ext cx="48769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сле присоединения к России Грузии, части Армении и Азербайджана территория обитания многих народов оказались в окружёнными российскими владениями. Попытка ввести российские законы привела к сопротивлению на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817 г. началось открытое противостоя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вказская вой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Картинка 15 из 43845"/>
          <p:cNvPicPr/>
          <p:nvPr/>
        </p:nvPicPr>
        <p:blipFill>
          <a:blip r:embed="rId2"/>
          <a:stretch/>
        </p:blipFill>
        <p:spPr>
          <a:xfrm>
            <a:off x="457200" y="1523880"/>
            <a:ext cx="32083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ссия и революции в Европ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о-иранская война ( 1826 – 1828 гг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о-турецкая война ( 1828 – 1829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стрение русско-английских противореч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вказская 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ссия и Центральная Аз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рымская вой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.П. Ермолов  осуществлял многочисленные походы против горцев, уничтожал их селения, возводил укреплённые пункты на путях их набе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3919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160" y="51055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91040" y="300240"/>
            <a:ext cx="8161560" cy="892440"/>
          </a:xfrm>
          <a:prstGeom prst="rect">
            <a:avLst/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вказская войн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0" y="1447560"/>
            <a:ext cx="4191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территории Чечни и Дагестана на основе мюридизма возникло религиозное государство – имамат, а его правителем стал Шами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Шамиль | Шамиль (имам Чечни и Дагестана) | Русская портретная галерея"/>
          <p:cNvPicPr/>
          <p:nvPr/>
        </p:nvPicPr>
        <p:blipFill>
          <a:blip r:embed="rId2"/>
          <a:stretch/>
        </p:blipFill>
        <p:spPr>
          <a:xfrm>
            <a:off x="228600" y="1523880"/>
            <a:ext cx="3970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266720" y="1523880"/>
            <a:ext cx="44197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коре русские войска стали теснить горцев, которые стали высказывать недовольство правлением Шамиля. Окончательная победа над имаматом была одержана уже после завершения царствования Никола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3909960" cy="4876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91400" y="300240"/>
            <a:ext cx="8275680" cy="892440"/>
          </a:xfrm>
          <a:prstGeom prst="rect">
            <a:avLst/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авказская войн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оссия и Центральная Аз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23960" y="2666520"/>
            <a:ext cx="7696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читаем материал на стр. 83 – 8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просы на стр. 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дведём итог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раграф 12, вопросы, записи, рабочая тетр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ic.academic.ru/dic.nsf/ruwiki/10374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topwar.ru/699-cmert-ix-remeslo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loger-iris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post193806012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bu-yunus.livejournal.co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140622.htm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images.rambler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/search?query=%D0%A8%D0%B0%D0%BC%D0%B8%D0%BB%D1%8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4648320"/>
            <a:ext cx="7315200" cy="2057400"/>
          </a:xfrm>
          <a:prstGeom prst="rect">
            <a:avLst/>
          </a:prstGeom>
          <a:solidFill>
            <a:srgbClr val="a8472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тоненкова Анжелик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ве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614880" y="309960"/>
            <a:ext cx="8142120" cy="949320"/>
          </a:xfrm>
          <a:prstGeom prst="rect">
            <a:avLst/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оссия и революции в Европ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9880" y="1645920"/>
            <a:ext cx="518184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Никола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Россия играла ведущую роль в жизни Европ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Как вы думаете, какими были основные направления вешней политики при Никола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5867280"/>
            <a:ext cx="3200400" cy="609840"/>
          </a:xfrm>
          <a:prstGeom prst="rect">
            <a:avLst/>
          </a:prstGeom>
          <a:solidFill>
            <a:srgbClr val="ffff99"/>
          </a:solidFill>
          <a:ln w="34920">
            <a:solidFill>
              <a:srgbClr val="a84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ола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3136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3" descr=""/>
          <p:cNvPicPr/>
          <p:nvPr/>
        </p:nvPicPr>
        <p:blipFill>
          <a:blip r:embed="rId2"/>
          <a:stretch/>
        </p:blipFill>
        <p:spPr>
          <a:xfrm>
            <a:off x="192240" y="809640"/>
            <a:ext cx="8759520" cy="6048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152280"/>
            <a:ext cx="8686800" cy="762120"/>
          </a:xfrm>
          <a:prstGeom prst="bevel">
            <a:avLst>
              <a:gd name="adj" fmla="val 12500"/>
            </a:avLst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оссия и революции в Европ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343400" y="16002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822 г. министром иностранных дел становится Карл Нессельроде, который своей главной задачей считал противодействовать революционному движ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6560" y="376560"/>
            <a:ext cx="8161560" cy="892440"/>
          </a:xfrm>
          <a:prstGeom prst="rect">
            <a:avLst/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оссия и революции в Европ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638680"/>
            <a:ext cx="3733920" cy="838440"/>
          </a:xfrm>
          <a:prstGeom prst="rect">
            <a:avLst/>
          </a:prstGeom>
          <a:solidFill>
            <a:srgbClr val="ffff99"/>
          </a:solidFill>
          <a:ln w="34920">
            <a:solidFill>
              <a:srgbClr val="a84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л Нессель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28526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76560" y="376560"/>
            <a:ext cx="8161560" cy="892440"/>
          </a:xfrm>
          <a:prstGeom prst="rect">
            <a:avLst/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оссия и революции в Европ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447920"/>
            <a:ext cx="4114800" cy="2590560"/>
          </a:xfrm>
          <a:prstGeom prst="flowChartDelay">
            <a:avLst/>
          </a:prstGeom>
          <a:solidFill>
            <a:srgbClr val="a8472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1830 г. во Фр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спыхнула революц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торая ещё 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граничила в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мпер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038480"/>
            <a:ext cx="4191120" cy="2590920"/>
          </a:xfrm>
          <a:prstGeom prst="flowChartDelay">
            <a:avLst/>
          </a:prstGeom>
          <a:solidFill>
            <a:srgbClr val="99cc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едом вспыхну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волюция в Бельг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результате  чего 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лучила независ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 Нидерлан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676520"/>
            <a:ext cx="4419720" cy="4267080"/>
          </a:xfrm>
          <a:prstGeom prst="flowChartProcess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онце ноября 1830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ольше вспыхну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стание, во гла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орого стоя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Чарторый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коре польская арм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ыла разбита, авто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ьши была урез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76560" y="376560"/>
            <a:ext cx="8161560" cy="892440"/>
          </a:xfrm>
          <a:prstGeom prst="rect">
            <a:avLst/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оссия и революции в Европ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5867280"/>
            <a:ext cx="3429000" cy="762120"/>
          </a:xfrm>
          <a:prstGeom prst="rect">
            <a:avLst/>
          </a:prstGeom>
          <a:solidFill>
            <a:srgbClr val="ffff99"/>
          </a:solidFill>
          <a:ln w="34920">
            <a:solidFill>
              <a:srgbClr val="a847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уи -Фили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Cмерть - их ремесло"/>
          <p:cNvPicPr/>
          <p:nvPr/>
        </p:nvPicPr>
        <p:blipFill>
          <a:blip r:embed="rId2"/>
          <a:stretch/>
        </p:blipFill>
        <p:spPr>
          <a:xfrm>
            <a:off x="380880" y="1447920"/>
            <a:ext cx="3135600" cy="443844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8" descr=""/>
          <p:cNvPicPr/>
          <p:nvPr/>
        </p:nvPicPr>
        <p:blipFill>
          <a:blip r:embed="rId3"/>
          <a:stretch/>
        </p:blipFill>
        <p:spPr>
          <a:xfrm>
            <a:off x="3733920" y="1447920"/>
            <a:ext cx="51861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038480" y="1523880"/>
            <a:ext cx="4572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кола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 большой тревогой воспринял эти собы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91040" y="376560"/>
            <a:ext cx="8161560" cy="892440"/>
          </a:xfrm>
          <a:prstGeom prst="rect">
            <a:avLst/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оссия и революции в Европ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495600" cy="4762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14800" y="2895480"/>
            <a:ext cx="4724280" cy="1219320"/>
          </a:xfrm>
          <a:custGeom>
            <a:avLst/>
            <a:gdLst>
              <a:gd name="textAreaLeft" fmla="*/ 143640 w 4724280"/>
              <a:gd name="textAreaRight" fmla="*/ 4580640 w 4724280"/>
              <a:gd name="textAreaTop" fmla="*/ 143640 h 1219320"/>
              <a:gd name="textAreaBottom" fmla="*/ 1075680 h 1219320"/>
            </a:gdLst>
            <a:ahLst/>
            <a:rect l="textAreaLeft" t="textAreaTop" r="textAreaRight" b="textAreaBottom"/>
            <a:pathLst>
              <a:path w="8367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0071" y="21600"/>
                </a:lnTo>
                <a:arcTo wR="3600" hR="3600" stAng="10800000" swAng="5400000"/>
                <a:lnTo>
                  <a:pt x="83671" y="3600"/>
                </a:lnTo>
                <a:arcTo wR="3600" hR="3600" stAng="5400000" swAng="5400000"/>
                <a:close/>
              </a:path>
            </a:pathLst>
          </a:cu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 февраля он прер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пломатические 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Фран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4343400"/>
            <a:ext cx="4724280" cy="2057400"/>
          </a:xfrm>
          <a:custGeom>
            <a:avLst/>
            <a:gdLst>
              <a:gd name="textAreaLeft" fmla="*/ 242280 w 4724280"/>
              <a:gd name="textAreaRight" fmla="*/ 4482000 w 4724280"/>
              <a:gd name="textAreaTop" fmla="*/ 242280 h 2057400"/>
              <a:gd name="textAreaBottom" fmla="*/ 1815120 h 2057400"/>
            </a:gdLst>
            <a:ahLst/>
            <a:rect l="textAreaLeft" t="textAreaTop" r="textAreaRight" b="textAreaBottom"/>
            <a:pathLst>
              <a:path w="495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5994" y="21600"/>
                </a:lnTo>
                <a:arcTo wR="3600" hR="3600" stAng="10800000" swAng="5400000"/>
                <a:lnTo>
                  <a:pt x="49594" y="3600"/>
                </a:lnTo>
                <a:arcTo wR="3600" hR="3600" stAng="5400000" swAng="5400000"/>
                <a:close/>
              </a:path>
            </a:pathLst>
          </a:cu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 марта собственнору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исал манифест, в кото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явил о необход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ьбы « со смут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Содержимое 4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8763120" cy="5562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681480" y="300240"/>
            <a:ext cx="8161560" cy="892440"/>
          </a:xfrm>
          <a:prstGeom prst="rect">
            <a:avLst/>
          </a:prstGeom>
          <a:solidFill>
            <a:srgbClr val="a8472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оссия и революции в Европ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18:5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