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B8A-5D9A-4C9D-B040-88C8E2DF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E76-6F1F-4A5E-B3A1-3E96A42E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A0C-6B76-45A7-983C-F92C57FF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FD7-286D-4069-8A44-FF496D15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07D-5484-49F9-BE75-9245DCDB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369-838A-4EFB-83FB-6FEF74D8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31F-14EF-43BC-B68C-CC6D293D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AF3-E962-4F1F-8081-AE47C9E8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77D-6F2C-4434-A593-8F2C5F97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108-C90D-4494-8475-4874D6FA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B2E-61E5-42D3-80F1-7FB3785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2EC-564E-46E7-A488-A74880FF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EA42-B565-4482-A916-270E31CC8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mons.wikimedia.org/wiki/File:East_europe_3-4cc.png?uselang=ru" TargetMode="External"/><Relationship Id="rId3" Type="http://schemas.openxmlformats.org/officeDocument/2006/relationships/hyperlink" Target="http://dic.academic.ru/dic.nsf/ruwiki/1098633" TargetMode="External"/><Relationship Id="rId4" Type="http://schemas.openxmlformats.org/officeDocument/2006/relationships/hyperlink" Target="http://dic.academic.ru/dic.nsf/ruwiki/1098633" TargetMode="External"/><Relationship Id="rId5" Type="http://schemas.openxmlformats.org/officeDocument/2006/relationships/hyperlink" Target="http://dic.academic.ru/dic.nsf/ruwiki/1098633" TargetMode="External"/><Relationship Id="rId6" Type="http://schemas.openxmlformats.org/officeDocument/2006/relationships/hyperlink" Target="http://dic.academic.ru/dic.nsf/ruwiki/1098633" TargetMode="External"/><Relationship Id="rId7" Type="http://schemas.openxmlformats.org/officeDocument/2006/relationships/hyperlink" Target="http://dic.academic.ru/dic.nsf/ruwiki/1098633" TargetMode="External"/><Relationship Id="rId8" Type="http://schemas.openxmlformats.org/officeDocument/2006/relationships/hyperlink" Target="http://dic.academic.ru/dic.nsf/ruwiki/1098633" TargetMode="External"/><Relationship Id="rId9" Type="http://schemas.openxmlformats.org/officeDocument/2006/relationships/hyperlink" Target="http://dic.academic.ru/dic.nsf/ruwiki/1098633" TargetMode="External"/><Relationship Id="rId10" Type="http://schemas.openxmlformats.org/officeDocument/2006/relationships/hyperlink" Target="http://dic.academic.ru/dic.nsf/ruwiki/1098633" TargetMode="External"/><Relationship Id="rId11" Type="http://schemas.openxmlformats.org/officeDocument/2006/relationships/hyperlink" Target="http://chornobyl.in.ua/bortnichestvo.htm" TargetMode="External"/><Relationship Id="rId12" Type="http://schemas.openxmlformats.org/officeDocument/2006/relationships/hyperlink" Target="http://chornobyl.in.ua/bortnichestvo.htm" TargetMode="External"/><Relationship Id="rId13" Type="http://schemas.openxmlformats.org/officeDocument/2006/relationships/hyperlink" Target="http://chornobyl.in.ua/bortnichestvo.htm" TargetMode="External"/><Relationship Id="rId14" Type="http://schemas.openxmlformats.org/officeDocument/2006/relationships/hyperlink" Target="http://chornobyl.in.ua/bortnichestvo.htm" TargetMode="External"/><Relationship Id="rId15" Type="http://schemas.openxmlformats.org/officeDocument/2006/relationships/hyperlink" Target="http://chornobyl.in.ua/bortnichestvo.htm" TargetMode="External"/><Relationship Id="rId16" Type="http://schemas.openxmlformats.org/officeDocument/2006/relationships/hyperlink" Target="http://godsbay.ru/slavs/hors.html" TargetMode="External"/><Relationship Id="rId17" Type="http://schemas.openxmlformats.org/officeDocument/2006/relationships/hyperlink" Target="http://godsbay.ru/slavs/hors.html" TargetMode="External"/><Relationship Id="rId18" Type="http://schemas.openxmlformats.org/officeDocument/2006/relationships/hyperlink" Target="http://godsbay.ru/slavs/hors.html" TargetMode="External"/><Relationship Id="rId19" Type="http://schemas.openxmlformats.org/officeDocument/2006/relationships/hyperlink" Target="http://godsbay.ru/slavs/hors.html" TargetMode="External"/><Relationship Id="rId20" Type="http://schemas.openxmlformats.org/officeDocument/2006/relationships/hyperlink" Target="http://godsbay.ru/slavs/hors.html" TargetMode="External"/><Relationship Id="rId21" Type="http://schemas.openxmlformats.org/officeDocument/2006/relationships/hyperlink" Target="http://godsbay.ru/slavs/hors.html" TargetMode="External"/><Relationship Id="rId22" Type="http://schemas.openxmlformats.org/officeDocument/2006/relationships/hyperlink" Target="http://godsbay.ru/slavs/hors.html" TargetMode="External"/><Relationship Id="rId23" Type="http://schemas.openxmlformats.org/officeDocument/2006/relationships/hyperlink" Target="http://rodonews.ru/news_1297182103.html" TargetMode="External"/><Relationship Id="rId24" Type="http://schemas.openxmlformats.org/officeDocument/2006/relationships/hyperlink" Target="http://rodonews.ru/news_1297182103.html" TargetMode="External"/><Relationship Id="rId25" Type="http://schemas.openxmlformats.org/officeDocument/2006/relationships/hyperlink" Target="http://rodonews.ru/news_1297182103.html" TargetMode="External"/><Relationship Id="rId26" Type="http://schemas.openxmlformats.org/officeDocument/2006/relationships/hyperlink" Target="http://rodonews.ru/news_1297182103.html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 Верования восточных славя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04920"/>
            <a:ext cx="8001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я России ,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ибог —  стрый, старый бог, дед ветров, упомянут в «Слове о Полку Игореве». Стрибог упоминается также в древнерусских поучениях против языч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257800"/>
            <a:ext cx="35812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ибог – повел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1654200"/>
            <a:ext cx="42670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ибога упоминали и почитали вместе с Дажьбогом.  Стрибога молили также мореплаватели, чтобы он дал «ветра в парус». У него было много сыновей и внуков – ветер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932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038120" y="1523880"/>
            <a:ext cx="48769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ес, Волос ) — божество в древнерусском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зыческом пантеоне, «скотий бог», покровитель сказителей и поэзии. С именем Велеса у славян связывалось звёздное скоп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5943600"/>
            <a:ext cx="3657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ес – покр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File:Veles Slavic god.jpg"/>
          <p:cNvPicPr/>
          <p:nvPr/>
        </p:nvPicPr>
        <p:blipFill>
          <a:blip r:embed="rId2"/>
          <a:stretch/>
        </p:blipFill>
        <p:spPr>
          <a:xfrm>
            <a:off x="457200" y="1371600"/>
            <a:ext cx="30290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191120" y="1523520"/>
            <a:ext cx="4572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ес и податель богатства (через скот, основное богатство кочевых племен - "бог скотов" , а позднее и просто бог достатка, который зарабатывается трудом на протяжении всей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865320" cy="5181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5943600"/>
            <a:ext cx="3657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ес – покр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67080" y="152388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ошь или Мокошь, в славянской мифологии богиня плодородия и судьбы, старшая из богинь прях судьбы, а также покровительница женских рукоделий - на Зем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606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03848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гиня в восточнославянской мифологии, единственное женское божество, идол которого стоял в воздвигнутом князем Владимиром киевском капище наравне с кумирами других бог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715000"/>
            <a:ext cx="33526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кошь ( Макош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9880" y="3962520"/>
            <a:ext cx="5181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великая богиня, породившая все сущее. Ее повсюду сопровождают светозарные всадники, олицетворяющие солнце. К ней особенно часто обращались в период созревания хлебов - это указывает на принадлежность богини к верховным покровителям человеческого ро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508200" cy="5181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3505320" cy="2549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5943600"/>
            <a:ext cx="3657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предки верили, что Дажьбог покровительствует свадьбам, встречает жениха на рассвете в день бракосочетания. Дажьбог замыкает зиму и отмыкает лет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521160" cy="502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6019920"/>
            <a:ext cx="34290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дь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038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2000520" cy="2552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За лимон баксов я буду даже мамонтом!"/>
          <p:cNvPicPr/>
          <p:nvPr/>
        </p:nvPicPr>
        <p:blipFill>
          <a:blip r:embed="rId3"/>
          <a:stretch/>
        </p:blipFill>
        <p:spPr>
          <a:xfrm>
            <a:off x="2819520" y="2344680"/>
            <a:ext cx="3124080" cy="2874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43200" y="5257800"/>
            <a:ext cx="2895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а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095880" y="1523880"/>
            <a:ext cx="2800440" cy="2239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5880" y="3657600"/>
            <a:ext cx="2895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5800" y="1523880"/>
            <a:ext cx="4156200" cy="4800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ы задобрить разгневанных богов ил заручиться их поддержкой, ему в жертву приносили животных, а в особо важных случаях – даже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народы знают самого первого бога — это живая, творящая мыслью, бесконечная во времени и пространстве Вселенная. Именно Всевышний создал своей мыслью Золотое яйцо, из которого вышел Его сын —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Р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Этот бог начал создавать видимы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864240" cy="541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6095880"/>
            <a:ext cx="36576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449080"/>
            <a:ext cx="64771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дания в рабочей тет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араграф 2, записи, нарисовать бога или низших божест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mmons.wikimedia.org/wiki/File:East_europe_3-4cc.png?uselang=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ic.academic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ic.ns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uwi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109863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hornobyl.in.u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bortnichestvo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godsbay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lav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ors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rodonews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news_129718210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876920"/>
            <a:ext cx="7162920" cy="1600200"/>
          </a:xfrm>
          <a:custGeom>
            <a:avLst/>
            <a:gdLst>
              <a:gd name="textAreaLeft" fmla="*/ 188280 w 7162920"/>
              <a:gd name="textAreaRight" fmla="*/ 6974640 w 7162920"/>
              <a:gd name="textAreaTop" fmla="*/ 188280 h 1600200"/>
              <a:gd name="textAreaBottom" fmla="*/ 1411920 h 1600200"/>
            </a:gdLst>
            <a:ahLst/>
            <a:rect l="textAreaLeft" t="textAreaTop" r="textAreaRight" b="textAreaBottom"/>
            <a:pathLst>
              <a:path w="966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3070" y="21600"/>
                </a:lnTo>
                <a:arcTo wR="3600" hR="3600" stAng="10800000" swAng="5400000"/>
                <a:lnTo>
                  <a:pt x="9667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4304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лавянской мифологии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Arial"/>
              </a:rPr>
              <a:t>богиня любви и красоты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менем Лада древние славяне называли не только изначальную богиню любви, но и весь строй жизни — лад, где все должно было ладно, то есть хорош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86568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6095880"/>
            <a:ext cx="36576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14440" y="15238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Яр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это — славянский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Arial"/>
              </a:rPr>
              <a:t>бог радостного света, весны и теп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Его имя, образованное от слова «яр», имеет несколько значений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пронзительный весенний свет и тепло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юная, стремительная и неуправляемая сила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страсть и плодород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6450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р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1444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ёт удалый бог, Ярило-молодец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нежный саван рвёт по всей Руси широкой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ёт могучий бог, враг смерти тусклоок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ило, жизни царь и властелин сердец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мака алого сплетён его венец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уках — зелёной ржи трепещет сноп высоки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а как жар горят, румянцем пышут ще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ёт весёлый бог, цветов и жатв отец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557520" cy="5181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6095880"/>
            <a:ext cx="36576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ило – бог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де Ярило пройдёт — будет хороший урожай, на кого посмотрит — у того в сердце разгорается любовь. Во многих песнях, присказках люди обращаются к этому божеству с просьбой о тёплом лете и хорошем урожа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7069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038120" y="1523880"/>
            <a:ext cx="48769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г-громовержец в славянской мифологии, покровитель князя и дружины. После распространения христианства на Руси многие элементы образа Перуна были перенесены на образ Ильи-про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614760" cy="5105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6095880"/>
            <a:ext cx="36576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ун – бог гром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190760" y="15238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ий князь Владимир Святославич поставил его во главе остальных богов и установил монумент рядом с княжеским дворцом в Киеве. После крещения Руси сам же велел его свергнуть и утопить в водах Днеп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319560" cy="4943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6019920"/>
            <a:ext cx="35049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ун – бог гром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038480" y="1676520"/>
            <a:ext cx="46483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н Рода бог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ар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это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тец Небес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Иногда его называли просто Б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арог сварганил (сварил, создал)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рования слав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124080" cy="5095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6095880"/>
            <a:ext cx="36576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арог- прар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3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