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96F-EBB3-4800-9B23-622AF39B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F7B-ABF3-4FAC-8E4D-67A22016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0D4-4A76-400D-9451-E5ADF012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B7F8-DE3A-4570-8543-97F547BB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E8C-7797-4262-A801-282254BE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F36-D58C-43C2-94B9-30EA72DA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5AC-7028-48F5-9912-1DA1F6CA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9A90-25A6-4DA5-92A3-7F0ECFCE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016-31CB-444F-A2FE-A51F2A38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C5EF-B440-44F8-B90A-437B8DD0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33F-7940-4106-81E0-8EE12E33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353-2712-42CE-A776-DD08C7EA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D43F-F5E2-4577-AC13-5F705242BD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304920"/>
            <a:ext cx="784872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"/>
              </a:rPr>
              <a:t>Тема урок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2437920"/>
            <a:ext cx="6248520" cy="27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« Рим при император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ерон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Файл:Nero pushkin.jpg"/>
          <p:cNvPicPr/>
          <p:nvPr/>
        </p:nvPicPr>
        <p:blipFill>
          <a:blip r:embed="rId2"/>
          <a:stretch/>
        </p:blipFill>
        <p:spPr>
          <a:xfrm>
            <a:off x="685800" y="4267080"/>
            <a:ext cx="1776240" cy="216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Файл:Neroandseneca.jpg"/>
          <p:cNvPicPr/>
          <p:nvPr/>
        </p:nvPicPr>
        <p:blipFill>
          <a:blip r:embed="rId3"/>
          <a:stretch/>
        </p:blipFill>
        <p:spPr>
          <a:xfrm>
            <a:off x="6553080" y="304920"/>
            <a:ext cx="2362320" cy="1771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Файл:Karl von Piloty Nero Róma égését szemléli.jpg"/>
          <p:cNvPicPr/>
          <p:nvPr/>
        </p:nvPicPr>
        <p:blipFill>
          <a:blip r:embed="rId4"/>
          <a:stretch/>
        </p:blipFill>
        <p:spPr>
          <a:xfrm>
            <a:off x="5791320" y="4267080"/>
            <a:ext cx="2981160" cy="2219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Файл:Vasiliy smirnov 001.jpg"/>
          <p:cNvPicPr/>
          <p:nvPr/>
        </p:nvPicPr>
        <p:blipFill>
          <a:blip r:embed="rId5"/>
          <a:stretch/>
        </p:blipFill>
        <p:spPr>
          <a:xfrm>
            <a:off x="380880" y="1143000"/>
            <a:ext cx="31244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513000" y="2077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знь сотен раб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419720" y="1447560"/>
            <a:ext cx="4572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 жестокости Нерона страдали все. Однажды богатый римлянин был убит своим рабом. Согласно закону, наказать должны были только виновного. Но Нерон приказал казнить всех рабов, находившихся в доме (400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40352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рон переживает убийство мате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жар в Ри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828800" y="1447920"/>
            <a:ext cx="5219640" cy="32590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"/>
          <p:cNvSpPr/>
          <p:nvPr/>
        </p:nvSpPr>
        <p:spPr>
          <a:xfrm>
            <a:off x="152280" y="4648320"/>
            <a:ext cx="8991720" cy="2057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Нероне страшное бедствие постигло Ри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пыхнул пожар, охвативший большую ча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рода. Бороться с огнём было бесполез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род обвинил Нерона в поджо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Файл:Karl von Piloty Nero Róma égését szemléli.jpg"/>
          <p:cNvPicPr/>
          <p:nvPr/>
        </p:nvPicPr>
        <p:blipFill>
          <a:blip r:embed="rId2"/>
          <a:stretch/>
        </p:blipFill>
        <p:spPr>
          <a:xfrm>
            <a:off x="285840" y="1447920"/>
            <a:ext cx="4286160" cy="3190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жар в Рим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6"/>
          <p:cNvSpPr/>
          <p:nvPr/>
        </p:nvSpPr>
        <p:spPr>
          <a:xfrm>
            <a:off x="304920" y="4267080"/>
            <a:ext cx="8839080" cy="2438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казывали, что Нерон стоял на  высок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шне при дворце и, вдохновляясь вид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ылающего города писал сти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Файл:Vasiliy smirnov 001.jpg"/>
          <p:cNvPicPr/>
          <p:nvPr/>
        </p:nvPicPr>
        <p:blipFill>
          <a:blip r:embed="rId2"/>
          <a:stretch/>
        </p:blipFill>
        <p:spPr>
          <a:xfrm>
            <a:off x="343080" y="1752480"/>
            <a:ext cx="8648640" cy="4343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ибель Нер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ерон и Сен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48640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. 254 – в синей рамо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Файл:Neroandseneca.jpg"/>
          <p:cNvPicPr/>
          <p:nvPr/>
        </p:nvPicPr>
        <p:blipFill>
          <a:blip r:embed="rId2"/>
          <a:stretch/>
        </p:blipFill>
        <p:spPr>
          <a:xfrm>
            <a:off x="304920" y="19144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 на стр. 2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дведение итога уро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раграф 55, вопросы, творческое задание: « Рассказ от лица человека, присутствующего на выступлении Неро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609480" y="426960"/>
            <a:ext cx="8229600" cy="1143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3"/>
          <p:cNvSpPr/>
          <p:nvPr/>
        </p:nvSpPr>
        <p:spPr>
          <a:xfrm>
            <a:off x="495360" y="4267080"/>
            <a:ext cx="8153280" cy="2057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ьский район 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знакомимся с личностью императора Нерон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ясним, каким он был императором и как к нему относился народ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иваем умение работать с учебником и правильно излагать свои мысл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4"/>
          <p:cNvSpPr/>
          <p:nvPr/>
        </p:nvSpPr>
        <p:spPr>
          <a:xfrm>
            <a:off x="533520" y="228600"/>
            <a:ext cx="8153280" cy="10666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мператоры объявляют себя бог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тёр на императорском трон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знь сотен раб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жар в Ри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3"/>
          <p:cNvSpPr/>
          <p:nvPr/>
        </p:nvSpPr>
        <p:spPr>
          <a:xfrm>
            <a:off x="533520" y="228600"/>
            <a:ext cx="8153280" cy="10666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687680" y="1500120"/>
            <a:ext cx="3441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762120" y="2057400"/>
            <a:ext cx="8001000" cy="38098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вы считаете, почему у в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казался такой страшны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еловек как Нер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вшие после Августа императоры всеми способами укрепляли свою власть. Перестали созывать народное собрание, народ должен был поклоняться им подобно бог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ператоры объявляю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бя бог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ой зловещей фигурой среди императоров 1 в. н.э. был император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Нерон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Файл:Nero pushkin.jpg"/>
          <p:cNvPicPr/>
          <p:nvPr/>
        </p:nvPicPr>
        <p:blipFill>
          <a:blip r:embed="rId2"/>
          <a:stretch/>
        </p:blipFill>
        <p:spPr>
          <a:xfrm>
            <a:off x="457200" y="1523880"/>
            <a:ext cx="3840120" cy="4684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04920" y="5715000"/>
            <a:ext cx="4038480" cy="838080"/>
          </a:xfrm>
          <a:prstGeom prst="rect">
            <a:avLst/>
          </a:prstGeom>
          <a:solidFill>
            <a:srgbClr val="eba33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юст Нерона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шкинском муз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ператоры объявляю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бя бог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вшие после Августа императоры всеми способами укрепляли свою власть. Перестали созывать народное собрание, народ должен был поклоняться им подобно бог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мператоры объявляю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бя бог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тёр на императорском тро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8534160" cy="447804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5"/>
          <p:cNvSpPr/>
          <p:nvPr/>
        </p:nvSpPr>
        <p:spPr>
          <a:xfrm>
            <a:off x="304920" y="4876920"/>
            <a:ext cx="8839080" cy="18288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он считал себя великим актёром и поэтом. Он чи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атре свои стихи,  выступал в ролях герое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еческих трагедий. Римляне обязаны были посещ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и высту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152280" y="4876920"/>
            <a:ext cx="8991720" cy="175248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ление императора на театральной сцене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ль необычным, что часть приводила к забав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сшествиям. Однажды, играя Геракла, котор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вали в цепь, новобранцы бросились его защищ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152280" y="4876920"/>
            <a:ext cx="8991720" cy="18288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театре во время выступления Нерона находи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торианцы и десятки доносчиков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или за поведением зрителей и отмечали те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не одобрял актёра – импер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0" y="4572000"/>
            <a:ext cx="9144000" cy="2133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, кто негативно отзывался об игре Нерона ждала казн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ненависть императора настигала и знатны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ажды крупный военачальник уснул на представлен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аказание он был сослан в дальний городок, где прожил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а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70a"/>
          <p:cNvPicPr/>
          <p:nvPr/>
        </p:nvPicPr>
        <p:blipFill>
          <a:blip r:embed="rId1"/>
          <a:stretch/>
        </p:blipFill>
        <p:spPr>
          <a:xfrm>
            <a:off x="0" y="0"/>
            <a:ext cx="9296280" cy="6853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99"/>
          </a:solidFill>
          <a:ln w="414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ктёр на императорском трон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 по ночам Нерон вместе со своими дружками выступал в роли главаря банды, но уже на улицах города, избивая и грабя прохожих. Эти нападения были ещё одним способом устрашения недовольных Неро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96252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25T18:59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