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jpeg" ContentType="image/jpeg"/>
  <Override PartName="/ppt/media/image19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455D-F9E3-406E-9F61-BA8AC38D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D719-A846-46E0-B481-BD4BB9C6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7045-D8A6-419A-BBC9-2E42C8E68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0609-DF20-4CA0-A96C-480E83CE1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4448-4944-44F6-8291-DDB2E357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3808-6D14-411B-9490-4ECFE7F3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F88E-A218-4525-BF83-9E4CCCFF7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E53-0FC7-44A5-BD3A-E2FAD934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0E9-FDB4-4928-86E4-06ED38E5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74B0-2AAD-4B11-9F9C-BB80B9F0D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59C-55B5-4004-92BE-4798FE35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9B82-CA58-4BDD-B73F-74D46ED1F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ABEB-3CDC-4F26-B24A-92B61F3FC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.imhonet.ru/person/large/ed/00/ed009e00658e0a6d8c654936d2973fcc.jpg" TargetMode="External"/><Relationship Id="rId3" Type="http://schemas.openxmlformats.org/officeDocument/2006/relationships/image" Target="../media/image28.jpeg"/><Relationship Id="rId4" Type="http://schemas.openxmlformats.org/officeDocument/2006/relationships/hyperlink" Target="http://www.opoccuu.com/silayev.jpg" TargetMode="External"/><Relationship Id="rId5" Type="http://schemas.openxmlformats.org/officeDocument/2006/relationships/image" Target="../media/image29.jpeg"/><Relationship Id="rId6" Type="http://schemas.openxmlformats.org/officeDocument/2006/relationships/hyperlink" Target="http://shgpi.edu.ru/biblioteka/forum/img/nashi_daty/Yeltsin_.jpg" TargetMode="External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sstat.com/rus/map_cis.gif" TargetMode="External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520" y="5331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ff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Arial"/>
              </a:rPr>
              <a:t>« Реформа политической системы: цели, этапы, итог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666880" y="5486400"/>
            <a:ext cx="6324840" cy="1371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ельский район Тверская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Юрий Андропов"/>
          <p:cNvPicPr/>
          <p:nvPr/>
        </p:nvPicPr>
        <p:blipFill>
          <a:blip r:embed="rId2"/>
          <a:stretch/>
        </p:blipFill>
        <p:spPr>
          <a:xfrm>
            <a:off x="457200" y="2108160"/>
            <a:ext cx="2209680" cy="1320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Файл:Chernenko.jpg"/>
          <p:cNvPicPr/>
          <p:nvPr/>
        </p:nvPicPr>
        <p:blipFill>
          <a:blip r:embed="rId3"/>
          <a:stretch/>
        </p:blipFill>
        <p:spPr>
          <a:xfrm>
            <a:off x="0" y="228600"/>
            <a:ext cx="131112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Файл:RIAN archive 359290 Mikhail Gorbachev.jpg"/>
          <p:cNvPicPr/>
          <p:nvPr/>
        </p:nvPicPr>
        <p:blipFill>
          <a:blip r:embed="rId4"/>
          <a:stretch/>
        </p:blipFill>
        <p:spPr>
          <a:xfrm>
            <a:off x="152280" y="3733920"/>
            <a:ext cx="12844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294920" y="16002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январе 1987 года пленум ЦК КПСС  признавал необходимым подбор кадров на основе главного критерия – поддержки ими целей и идей перестройки. Смена партийно – государственных руководителей ускорилась под предлогом борьбы с консерватизм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427400" y="330120"/>
            <a:ext cx="72036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дровая револю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294920" y="15998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1985 -1990 гг. произошла массовая замена и «омоложения» партийно – государственных кадров как на центральном, так и на местном уровне. Одновременно росла роль местных руководителей. Поэтому была необходима серьёзная политическая реформ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196280" y="327600"/>
            <a:ext cx="7665840" cy="99036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дровая револю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F:\-горбачев\29.jpg"/>
          <p:cNvPicPr/>
          <p:nvPr/>
        </p:nvPicPr>
        <p:blipFill>
          <a:blip r:embed="rId2"/>
          <a:stretch/>
        </p:blipFill>
        <p:spPr>
          <a:xfrm rot="21130800">
            <a:off x="228240" y="2437920"/>
            <a:ext cx="3886200" cy="2390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1346760" y="280080"/>
            <a:ext cx="7516440" cy="9630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нституционная реформа 1988-1990 гг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4"/>
          <p:cNvSpPr/>
          <p:nvPr/>
        </p:nvSpPr>
        <p:spPr>
          <a:xfrm>
            <a:off x="4114800" y="1523880"/>
            <a:ext cx="4800600" cy="43434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этап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Январь 198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К принял меры по развит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ментов демократ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партии и на производ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88960" y="284040"/>
            <a:ext cx="827028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нституционная реформа 1988 – 1990 гг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"/>
          <p:cNvSpPr/>
          <p:nvPr/>
        </p:nvSpPr>
        <p:spPr>
          <a:xfrm>
            <a:off x="533520" y="1523880"/>
            <a:ext cx="8381880" cy="1371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ето 1988 г. – XIX Всесоюзная партий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ференция обсуждала вопросы полит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221000" y="2819520"/>
            <a:ext cx="7002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80880" y="3429000"/>
            <a:ext cx="8534520" cy="32767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Был провозглашён курс на созд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социалистического правового государств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деление вла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ие советского парламентар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формировать новый высший орган власти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ъезд народных депу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вратить Верховный Совет в постоян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йствующий ор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5"/>
          <p:cNvSpPr/>
          <p:nvPr/>
        </p:nvSpPr>
        <p:spPr>
          <a:xfrm>
            <a:off x="533520" y="4191120"/>
            <a:ext cx="8305560" cy="25146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ыборы предполагалось провод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альтернативной ос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и должны быть двухступенчат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/3 депутатов формируются 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щественных организ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нституционная реформа 1988 – 1990 гг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9"/>
          <p:cNvSpPr/>
          <p:nvPr/>
        </p:nvSpPr>
        <p:spPr>
          <a:xfrm>
            <a:off x="2590920" y="1676520"/>
            <a:ext cx="3504960" cy="1523880"/>
          </a:xfrm>
          <a:prstGeom prst="ellipse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4086360" y="3200400"/>
            <a:ext cx="637920" cy="990720"/>
          </a:xfrm>
          <a:prstGeom prst="downArrow">
            <a:avLst>
              <a:gd name="adj1" fmla="val 50000"/>
              <a:gd name="adj2" fmla="val 3882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нституционная реформа 1988 – 1990 гг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343400" y="1599840"/>
            <a:ext cx="4572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втором эта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ституционной рефор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двинулась за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ведения поста презид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ССР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F:\-горбачев\3.jpg"/>
          <p:cNvPicPr/>
          <p:nvPr/>
        </p:nvPicPr>
        <p:blipFill>
          <a:blip r:embed="rId2"/>
          <a:stretch/>
        </p:blipFill>
        <p:spPr>
          <a:xfrm>
            <a:off x="762120" y="1600200"/>
            <a:ext cx="3332160" cy="41148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0"/>
          <p:cNvSpPr/>
          <p:nvPr/>
        </p:nvSpPr>
        <p:spPr>
          <a:xfrm>
            <a:off x="609480" y="5562720"/>
            <a:ext cx="3962520" cy="1066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ый президент ССС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5486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работаем с документом на стр. 319.                   «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з предвыборной платформы А.Д. Сахарова. 1989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F:\-горбачев\28.jpg"/>
          <p:cNvPicPr/>
          <p:nvPr/>
        </p:nvPicPr>
        <p:blipFill>
          <a:blip r:embed="rId2"/>
          <a:stretch/>
        </p:blipFill>
        <p:spPr>
          <a:xfrm>
            <a:off x="1752480" y="1515960"/>
            <a:ext cx="5639040" cy="3826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нституционная реформа 1988 – 1990 гг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219320" y="1371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ыла также поставлена                                          задача построения правового                                              государства, в котором обеспечивается раве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аждан перед законом. Для этого была отменена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-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татья Конституции ССС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закреплявшая руководящее положение КПСС в обществе. Это дало возможность для формирования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многопартийност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в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Конституционная реформа 1988 – 1990 гг.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37160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ормирование многопартийности происходит на фоне экономического коллапса. Полки магазинов пусты. Народ начинает проявлять свое недовольство открыто. В мае 1988 г. первой «оппозиционной» КП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артией провозглас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б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«Демокра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союз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19000" y="331560"/>
            <a:ext cx="7810200" cy="105876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ормирова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F:\-горбачев\4.jpg"/>
          <p:cNvPicPr/>
          <p:nvPr/>
        </p:nvPicPr>
        <p:blipFill>
          <a:blip r:embed="rId2"/>
          <a:stretch/>
        </p:blipFill>
        <p:spPr>
          <a:xfrm>
            <a:off x="5715000" y="4267080"/>
            <a:ext cx="320040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1640" y="13716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вая открыто провозгласившая себя оппозиционна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ческая партия   в СССР, основанная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мая 1988 г. группой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ветских  диссидентов 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озащит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обрела известность после ряда   запрещённых демонстраций и митингов в центре Москвы и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ормирова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6" descr="Тип: Гюго, ЭСЭ&#10;Подтип: СЛ          &#10;Женщина&#10;&#10;Новодворская Валерия Ильинична&#10;"/>
          <p:cNvPicPr/>
          <p:nvPr/>
        </p:nvPicPr>
        <p:blipFill>
          <a:blip r:embed="rId2"/>
          <a:stretch/>
        </p:blipFill>
        <p:spPr>
          <a:xfrm>
            <a:off x="533520" y="1676520"/>
            <a:ext cx="3860640" cy="4190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7"/>
          <p:cNvSpPr/>
          <p:nvPr/>
        </p:nvSpPr>
        <p:spPr>
          <a:xfrm>
            <a:off x="380880" y="5638680"/>
            <a:ext cx="419112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И. Новодвор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294920" y="1599840"/>
            <a:ext cx="7620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редыстория перестрой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« Кадровая революц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Конституционная реформа 1988 -1990 г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Формирование многопартийност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Национальная полит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Августовский политический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1295280" y="304920"/>
            <a:ext cx="7467840" cy="91440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ормирова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йская политическая партия, возникшая в 1990 году как альтернатива КПСС. По данным Федеральной регистрационной службы на 1 января 2007 года, насчитывала 82183 членов. 15 ноября 2008 года на внеочередном съезде партия объявила о самороспус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Файл:DPR.jpg"/>
          <p:cNvPicPr/>
          <p:nvPr/>
        </p:nvPicPr>
        <p:blipFill>
          <a:blip r:embed="rId2"/>
          <a:stretch/>
        </p:blipFill>
        <p:spPr>
          <a:xfrm>
            <a:off x="1143000" y="2435400"/>
            <a:ext cx="3733920" cy="21621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2"/>
          <p:cNvSpPr/>
          <p:nvPr/>
        </p:nvSpPr>
        <p:spPr>
          <a:xfrm>
            <a:off x="1295280" y="4648320"/>
            <a:ext cx="3276720" cy="10666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мокра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тия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ормирова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0384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йская политическая партия либеральной направленности. В 2006-2010 годах входила в оппозиционную коалицию «Другая Россия», с 2010 года входит либеральную коа-лицию За Россию без произвола и коррупции. Республиканская партия одна из старейших в России. Она была образована на рубеже 80-х и 90-х годов на основе демократической платформы КПС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Файл:Respublikanskaya partiya.gif"/>
          <p:cNvPicPr/>
          <p:nvPr/>
        </p:nvPicPr>
        <p:blipFill>
          <a:blip r:embed="rId2"/>
          <a:stretch/>
        </p:blipFill>
        <p:spPr>
          <a:xfrm>
            <a:off x="457200" y="182880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2"/>
          <p:cNvSpPr/>
          <p:nvPr/>
        </p:nvSpPr>
        <p:spPr>
          <a:xfrm>
            <a:off x="685800" y="5334120"/>
            <a:ext cx="3124080" cy="91440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оябрь 199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1427400" y="330120"/>
            <a:ext cx="72036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ирова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1752480" y="1523880"/>
            <a:ext cx="601992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стическое направ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9"/>
          <p:cNvSpPr/>
          <p:nvPr/>
        </p:nvSpPr>
        <p:spPr>
          <a:xfrm rot="10800000">
            <a:off x="3963600" y="2286000"/>
            <a:ext cx="2360520" cy="838080"/>
          </a:xfrm>
          <a:custGeom>
            <a:avLst/>
            <a:gdLst>
              <a:gd name="textAreaLeft" fmla="*/ 235800 w 2360520"/>
              <a:gd name="textAreaRight" fmla="*/ 2124720 w 2360520"/>
              <a:gd name="textAreaTop" fmla="*/ 478800 h 838080"/>
              <a:gd name="textAreaBottom" fmla="*/ 718560 h 838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"/>
          <p:cNvSpPr/>
          <p:nvPr/>
        </p:nvSpPr>
        <p:spPr>
          <a:xfrm>
            <a:off x="1143000" y="2438280"/>
            <a:ext cx="3276720" cy="182880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мокра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ссоци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"/>
          <p:cNvSpPr/>
          <p:nvPr/>
        </p:nvSpPr>
        <p:spPr>
          <a:xfrm>
            <a:off x="3505320" y="3886200"/>
            <a:ext cx="3352680" cy="175248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емокра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2"/>
          <p:cNvSpPr/>
          <p:nvPr/>
        </p:nvSpPr>
        <p:spPr>
          <a:xfrm>
            <a:off x="5867280" y="2362320"/>
            <a:ext cx="3048120" cy="1752480"/>
          </a:xfrm>
          <a:prstGeom prst="ellipse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циалистиче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4" descr="Файл:Old SDPR logo.gif"/>
          <p:cNvPicPr/>
          <p:nvPr/>
        </p:nvPicPr>
        <p:blipFill>
          <a:blip r:embed="rId2"/>
          <a:stretch/>
        </p:blipFill>
        <p:spPr>
          <a:xfrm>
            <a:off x="5791320" y="4724280"/>
            <a:ext cx="18288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1427400" y="330120"/>
            <a:ext cx="72036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ормирова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4329000" y="1447920"/>
            <a:ext cx="623880" cy="838080"/>
          </a:xfrm>
          <a:prstGeom prst="downArrow">
            <a:avLst>
              <a:gd name="adj1" fmla="val 50000"/>
              <a:gd name="adj2" fmla="val 33583"/>
            </a:avLst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9"/>
          <p:cNvSpPr/>
          <p:nvPr/>
        </p:nvSpPr>
        <p:spPr>
          <a:xfrm>
            <a:off x="990720" y="2286000"/>
            <a:ext cx="7772400" cy="152388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 всём многообразии партий вновь в цент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ческой  борьбы вновь оказались д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2"/>
          <p:cNvSpPr/>
          <p:nvPr/>
        </p:nvSpPr>
        <p:spPr>
          <a:xfrm>
            <a:off x="6324480" y="3809880"/>
            <a:ext cx="623880" cy="83844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2362320" y="3809880"/>
            <a:ext cx="623880" cy="83844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33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4"/>
          <p:cNvSpPr/>
          <p:nvPr/>
        </p:nvSpPr>
        <p:spPr>
          <a:xfrm>
            <a:off x="1066680" y="4648320"/>
            <a:ext cx="327672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ммунисти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5"/>
          <p:cNvSpPr/>
          <p:nvPr/>
        </p:nvSpPr>
        <p:spPr>
          <a:xfrm>
            <a:off x="5029200" y="4648320"/>
            <a:ext cx="3276720" cy="1600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бера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9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1640" y="160020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зывали к развитию общественной собственности, коллективных форм общественных отношений и самоуправ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Файл:KPRF logo.svg"/>
          <p:cNvPicPr/>
          <p:nvPr/>
        </p:nvPicPr>
        <p:blipFill>
          <a:blip r:embed="rId2"/>
          <a:stretch/>
        </p:blipFill>
        <p:spPr>
          <a:xfrm>
            <a:off x="1752480" y="3809880"/>
            <a:ext cx="2183040" cy="2438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1352160" y="331560"/>
            <a:ext cx="7505640" cy="105876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ормирова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2" descr="Файл:Zyuganov mit.jpg"/>
          <p:cNvPicPr/>
          <p:nvPr/>
        </p:nvPicPr>
        <p:blipFill>
          <a:blip r:embed="rId3"/>
          <a:stretch/>
        </p:blipFill>
        <p:spPr>
          <a:xfrm>
            <a:off x="1219320" y="1565280"/>
            <a:ext cx="320040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1055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бералы выступали за приватизацию собственности, свободу личности, систему полноценной парламентской демократии, переход к рыночной экономи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971280" y="331560"/>
            <a:ext cx="7886520" cy="105876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Формирование многопартийност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Файл:LDPR Emblem.png"/>
          <p:cNvPicPr/>
          <p:nvPr/>
        </p:nvPicPr>
        <p:blipFill>
          <a:blip r:embed="rId2"/>
          <a:stretch/>
        </p:blipFill>
        <p:spPr>
          <a:xfrm>
            <a:off x="1219320" y="3606840"/>
            <a:ext cx="2438280" cy="2903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im0-tub-ru.yandex.net/i?id=406215508-61-72"/>
          <p:cNvPicPr/>
          <p:nvPr/>
        </p:nvPicPr>
        <p:blipFill>
          <a:blip r:embed="rId3"/>
          <a:stretch/>
        </p:blipFill>
        <p:spPr>
          <a:xfrm>
            <a:off x="1371600" y="1600200"/>
            <a:ext cx="23623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465560" y="368640"/>
            <a:ext cx="7278840" cy="174636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циональная политика и международны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95280" y="259092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читайте пункт н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тр. 3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" descr="F:\-горбачев\18.jpg"/>
          <p:cNvPicPr/>
          <p:nvPr/>
        </p:nvPicPr>
        <p:blipFill>
          <a:blip r:embed="rId2"/>
          <a:stretch/>
        </p:blipFill>
        <p:spPr>
          <a:xfrm>
            <a:off x="228600" y="2514600"/>
            <a:ext cx="3962520" cy="3176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" descr="F:\-горбачев\16.jpg"/>
          <p:cNvPicPr/>
          <p:nvPr/>
        </p:nvPicPr>
        <p:blipFill>
          <a:blip r:embed="rId3"/>
          <a:stretch/>
        </p:blipFill>
        <p:spPr>
          <a:xfrm>
            <a:off x="4419720" y="4343400"/>
            <a:ext cx="4190760" cy="2335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>
            <a:off x="750240" y="339120"/>
            <a:ext cx="8100720" cy="119664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Августовский политический кризис 1991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Файл:1991coup2 ST.jpg"/>
          <p:cNvPicPr/>
          <p:nvPr/>
        </p:nvPicPr>
        <p:blipFill>
          <a:blip r:embed="rId4"/>
          <a:stretch/>
        </p:blipFill>
        <p:spPr>
          <a:xfrm>
            <a:off x="4419720" y="1752480"/>
            <a:ext cx="3733560" cy="23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Файл:Boris Yeltsin.jpg"/>
          <p:cNvPicPr/>
          <p:nvPr/>
        </p:nvPicPr>
        <p:blipFill>
          <a:blip r:embed="rId2"/>
          <a:stretch/>
        </p:blipFill>
        <p:spPr>
          <a:xfrm>
            <a:off x="228600" y="1447920"/>
            <a:ext cx="2901960" cy="4343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вгустовский политический кризис 1991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123720" y="1523520"/>
            <a:ext cx="5867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емясь не допустить подписания нового Союзного договора, консервативные силы в отсутствие Президента Горбачева в ночь на 19 августа 1991 г. создали Государственный комитет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резвычайному положению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ГКЧП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ый вошли Г.Янаев, В.Павлов, Д.Язов, В.Крючков, Б.Пуго. В Москву были введены войска. По призыву Президента России десятки тысяч москвичей заняли оборону вокруг Белого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3"/>
          <p:cNvSpPr/>
          <p:nvPr/>
        </p:nvSpPr>
        <p:spPr>
          <a:xfrm>
            <a:off x="0" y="5562720"/>
            <a:ext cx="3352680" cy="761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.Н. Ель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 txBox="1"/>
          <p:nvPr/>
        </p:nvSpPr>
        <p:spPr>
          <a:xfrm>
            <a:off x="1432080" y="335520"/>
            <a:ext cx="7422120" cy="112752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вгустовский политический криз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218960" y="17524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ГКЧП ввёл в отдельных районах чрезвычайное по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Объявил расформированными структуры в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риостановил деятельность оппозиционных партий и движ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Запретил митинги и демонст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Установил жёсткий контроль за С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Ввёл войска в Москв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0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едыстория перестрой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androp-s"/>
          <p:cNvPicPr/>
          <p:nvPr/>
        </p:nvPicPr>
        <p:blipFill>
          <a:blip r:embed="rId2"/>
          <a:stretch/>
        </p:blipFill>
        <p:spPr>
          <a:xfrm>
            <a:off x="4572000" y="1981080"/>
            <a:ext cx="3006720" cy="38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"/>
          <p:cNvPicPr/>
          <p:nvPr/>
        </p:nvPicPr>
        <p:blipFill>
          <a:blip r:embed="rId3"/>
          <a:stretch/>
        </p:blipFill>
        <p:spPr>
          <a:xfrm>
            <a:off x="533520" y="1638360"/>
            <a:ext cx="2916000" cy="35812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1"/>
          <p:cNvSpPr/>
          <p:nvPr/>
        </p:nvSpPr>
        <p:spPr>
          <a:xfrm>
            <a:off x="380880" y="5181480"/>
            <a:ext cx="3200400" cy="5335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.И. Бреж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343400" y="5867280"/>
            <a:ext cx="3352680" cy="5335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В. Андроп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1274760" y="330120"/>
            <a:ext cx="735588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вгустовский политический криз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Картинка 4 из 153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1523880"/>
            <a:ext cx="2097360" cy="23623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3"/>
          <p:cNvSpPr/>
          <p:nvPr/>
        </p:nvSpPr>
        <p:spPr>
          <a:xfrm>
            <a:off x="152280" y="3809880"/>
            <a:ext cx="2210040" cy="38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.И. Хасбула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http://www.opoccuu.com/silayev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276720" y="1523880"/>
            <a:ext cx="1828800" cy="23162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3"/>
          <p:cNvSpPr/>
          <p:nvPr/>
        </p:nvSpPr>
        <p:spPr>
          <a:xfrm>
            <a:off x="3124080" y="3809880"/>
            <a:ext cx="2210040" cy="3812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.С. Сил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Картинка 5 из 310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400800" y="1523880"/>
            <a:ext cx="1676520" cy="25117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13"/>
          <p:cNvSpPr/>
          <p:nvPr/>
        </p:nvSpPr>
        <p:spPr>
          <a:xfrm>
            <a:off x="6172200" y="3962520"/>
            <a:ext cx="2209680" cy="3808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.Н. Ельц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11"/>
          <p:cNvSpPr/>
          <p:nvPr/>
        </p:nvSpPr>
        <p:spPr>
          <a:xfrm>
            <a:off x="685800" y="4419720"/>
            <a:ext cx="8153280" cy="2133360"/>
          </a:xfrm>
          <a:prstGeom prst="roundRect">
            <a:avLst>
              <a:gd name="adj" fmla="val 16667"/>
            </a:avLst>
          </a:prstGeom>
          <a:solidFill>
            <a:srgbClr val="f3ce7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ководство РСФСР выступило с обращением к россиянам, в котором осудило действия ГКЧП как антиконституционный переворот, а сам ГКЧП  е го решения объявлялись незакон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 txBox="1"/>
          <p:nvPr/>
        </p:nvSpPr>
        <p:spPr>
          <a:xfrm>
            <a:off x="1432080" y="335520"/>
            <a:ext cx="7422120" cy="112752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вгустовский политический криз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http://chron.eduhmao.ru/img_8_19_2_1.jpeg"/>
          <p:cNvPicPr/>
          <p:nvPr/>
        </p:nvPicPr>
        <p:blipFill>
          <a:blip r:embed="rId2"/>
          <a:stretch/>
        </p:blipFill>
        <p:spPr>
          <a:xfrm>
            <a:off x="609480" y="1600200"/>
            <a:ext cx="8293320" cy="2133720"/>
          </a:xfrm>
          <a:prstGeom prst="rect">
            <a:avLst/>
          </a:prstGeom>
          <a:ln w="0">
            <a:noFill/>
          </a:ln>
        </p:spPr>
      </p:pic>
      <p:sp>
        <p:nvSpPr>
          <p:cNvPr id="193" name="Скругленный прямоугольник 6"/>
          <p:cNvSpPr/>
          <p:nvPr/>
        </p:nvSpPr>
        <p:spPr>
          <a:xfrm>
            <a:off x="304920" y="4267080"/>
            <a:ext cx="8610480" cy="2362320"/>
          </a:xfrm>
          <a:prstGeom prst="roundRect">
            <a:avLst>
              <a:gd name="adj" fmla="val 16667"/>
            </a:avLst>
          </a:prstGeom>
          <a:solidFill>
            <a:srgbClr val="f3ce7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августа была созвана чрезвычайная сессия Верховного Совета России . В этот же день вернулся в Москву Президент СССР М.С. Горбачёв. ГКЧП были арестова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609480" y="3352680"/>
            <a:ext cx="8305920" cy="685800"/>
          </a:xfrm>
          <a:prstGeom prst="rect">
            <a:avLst/>
          </a:prstGeom>
          <a:solidFill>
            <a:srgbClr val="f6e16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Янаев           В. Крючков          Д. Язов            В. Пав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2189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Я сейчас жалею: надо было не уезжать в Форос в августе 1991 г. Я думаю, что Советский Союз сохранился бы… Так же как была и ещё одна ошибка — что я не отправил Ельцина навсегда в какую-нибудь страну заготавливать бананы после известных процессов, когда требовал Пленум: «Исключить Ельцина из членов ЦК!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 М.С. Горбачёв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з интервью В.В. Познеру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Картинка 3 из 947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2362320"/>
            <a:ext cx="8535960" cy="4267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вгустовский политический криз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Прямоугольник 7" descr=""/>
          <p:cNvPicPr/>
          <p:nvPr/>
        </p:nvPicPr>
        <p:blipFill>
          <a:blip r:embed="rId4"/>
          <a:stretch/>
        </p:blipFill>
        <p:spPr>
          <a:xfrm>
            <a:off x="298440" y="1249200"/>
            <a:ext cx="847404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343400" y="1371600"/>
            <a:ext cx="4648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вым из советских лидеров признал нерешённость многих проблем. Предпринял меры по наведению элементарного порядка, искоренил коррупцию, выступал за обновление политической сист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едыстория перестрой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Юрий Андропов"/>
          <p:cNvPicPr/>
          <p:nvPr/>
        </p:nvPicPr>
        <p:blipFill>
          <a:blip r:embed="rId2"/>
          <a:stretch/>
        </p:blipFill>
        <p:spPr>
          <a:xfrm>
            <a:off x="0" y="1676520"/>
            <a:ext cx="4343400" cy="286524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4"/>
          <p:cNvSpPr/>
          <p:nvPr/>
        </p:nvSpPr>
        <p:spPr>
          <a:xfrm>
            <a:off x="0" y="4724280"/>
            <a:ext cx="4572000" cy="190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го деятельность б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стречена с симпатией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родила надежды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мены к лучш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114440" y="1447560"/>
            <a:ext cx="4800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кончил трёхгодичную школу сельской молодёжи, Высшую школу партийных организаторов при ЦК ВКП (б) (1945), Кишиневский педагогический институт (1953). В 1929—1931 — заведующий отделом агитации и пропаганды Новоселовского райкома ВЛКС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9" descr="Файл:Chernenko.jpg"/>
          <p:cNvPicPr/>
          <p:nvPr/>
        </p:nvPicPr>
        <p:blipFill>
          <a:blip r:embed="rId2"/>
          <a:stretch/>
        </p:blipFill>
        <p:spPr>
          <a:xfrm>
            <a:off x="609480" y="1523880"/>
            <a:ext cx="3459240" cy="4627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едыстория перестрой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457200" y="5715000"/>
            <a:ext cx="365760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.У. Черн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едыстория перестрой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 Черненко окончательно сформировалось и усилило свои позиции крыло руководства партии, выступающее за более радикальное обновление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42429"/>
          <p:cNvPicPr/>
          <p:nvPr/>
        </p:nvPicPr>
        <p:blipFill>
          <a:blip r:embed="rId2"/>
          <a:stretch/>
        </p:blipFill>
        <p:spPr>
          <a:xfrm>
            <a:off x="457200" y="1523880"/>
            <a:ext cx="2124000" cy="3124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index"/>
          <p:cNvPicPr/>
          <p:nvPr/>
        </p:nvPicPr>
        <p:blipFill>
          <a:blip r:embed="rId3"/>
          <a:stretch/>
        </p:blipFill>
        <p:spPr>
          <a:xfrm>
            <a:off x="2286000" y="3048120"/>
            <a:ext cx="2724120" cy="35812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6"/>
          <p:cNvSpPr/>
          <p:nvPr/>
        </p:nvSpPr>
        <p:spPr>
          <a:xfrm>
            <a:off x="152280" y="4343400"/>
            <a:ext cx="2590920" cy="5335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.У. Чернен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2438280" y="6095880"/>
            <a:ext cx="2590920" cy="5335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123720" y="1447560"/>
            <a:ext cx="57913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дился 2 марта 1931 года в селе Привольное Медведенского района Ставропольского края  в крестьянской семье. С 13 лет периодически совмещал учёбу в школе с работой в МТС и в колхозе. С 15 лет работал помощником комбайнёра машинно-тракторной станции. В 1948 году был награждён орденом Трудового Красного Знамени как знатный комбайнёр. В 10 классе, в 19 лет стал кандидатом в члены КПСС, рекомендации дали директор и учителя шко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Файл:RIAN archive 359290 Mikhail Gorbachev.jpg"/>
          <p:cNvPicPr/>
          <p:nvPr/>
        </p:nvPicPr>
        <p:blipFill>
          <a:blip r:embed="rId2"/>
          <a:stretch/>
        </p:blipFill>
        <p:spPr>
          <a:xfrm>
            <a:off x="304920" y="1676520"/>
            <a:ext cx="2719440" cy="40384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едыстория перестрой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228600" y="5486400"/>
            <a:ext cx="2895480" cy="5335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.С. Горб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2160" y="1447560"/>
            <a:ext cx="47242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ледство, доставшееся новому руководству, было непростым. Продолжалась гонка вооружений, Афганская война, усиливался кризис в экономике, понижался уровень жизн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с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Файл:Reagan and Gorbachev (1985).jpg"/>
          <p:cNvPicPr/>
          <p:nvPr/>
        </p:nvPicPr>
        <p:blipFill>
          <a:blip r:embed="rId2"/>
          <a:stretch/>
        </p:blipFill>
        <p:spPr>
          <a:xfrm>
            <a:off x="457200" y="1523880"/>
            <a:ext cx="3117960" cy="4681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редыстория перестрой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152280" y="5943600"/>
            <a:ext cx="4267440" cy="762120"/>
          </a:xfrm>
          <a:prstGeom prst="rect">
            <a:avLst/>
          </a:prstGeom>
          <a:solidFill>
            <a:srgbClr val="ffff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. Рейган и М.С. Горбачё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1-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3366ff"/>
          </a:solidFill>
          <a:ln w="2232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Кадровая революц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 нового руководства не было чёткой концепции и программы перемен. Горбачёв признавал, что на первых порах нужно совершенствовать устоявшиеся порядки и выправить «отдельные деформац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F:\-горбачев\8.jpg"/>
          <p:cNvPicPr/>
          <p:nvPr/>
        </p:nvPicPr>
        <p:blipFill>
          <a:blip r:embed="rId2"/>
          <a:stretch/>
        </p:blipFill>
        <p:spPr>
          <a:xfrm>
            <a:off x="152280" y="2070000"/>
            <a:ext cx="40388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7T17:27:58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