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E3A-D949-4934-A512-234C7297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160-7483-43F4-877A-78F53911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CED-85F0-430C-8B80-6AA22D5C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8F4-7116-4135-B2E1-B1A043B7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207-8D82-4A90-B653-869BA99F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6BA-27CC-4D45-A25B-FC8D5BF0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E70-96C2-4465-9B83-2945700F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6470-006E-45E5-A631-A4F356D1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489-5C47-4875-9883-20C5926C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711-549D-4866-B95A-CB2F3754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F97-AD4D-4CF8-9D9E-1B7F9A21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0BC-431E-48D3-9800-0B5EDBA7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24D7-DD6C-4C50-B07D-353007DB4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a/MarkAntony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« Установление импер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5257800"/>
            <a:ext cx="5791320" cy="1600200"/>
          </a:xfrm>
          <a:prstGeom prst="rect">
            <a:avLst/>
          </a:prstGeom>
          <a:solidFill>
            <a:srgbClr val="f6ab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Файл:The Death of Cleopatra arthur.jpg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5943600"/>
            <a:ext cx="861048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ь Клеопа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53, вопросы, записи, рабочая 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рьба Антония и Октавиана за вл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диновластие Октавиана Авгу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1120" y="13712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цом Марка Антония был Марк Антоний Кретик, матерью — Юлия Антония. В юности  Антоний отличался приверженцем пагубных привычек, транжирством и часто разгуливал по улицам вместе со своими братьями и друзь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MarkAntony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00200"/>
            <a:ext cx="3863880" cy="461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5791320"/>
            <a:ext cx="4038840" cy="609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к Ант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был внук любимой сестры Цезаря, хилый и болезненный юноша.  Во время убийства Цезаря он находился на Балканском полуострове. Где обучался военному д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Acaugustus.jpg"/>
          <p:cNvPicPr/>
          <p:nvPr/>
        </p:nvPicPr>
        <p:blipFill>
          <a:blip r:embed="rId2"/>
          <a:stretch/>
        </p:blipFill>
        <p:spPr>
          <a:xfrm>
            <a:off x="762120" y="1523880"/>
            <a:ext cx="2857320" cy="461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396252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авиан Авгу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61800" y="1523880"/>
            <a:ext cx="842040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80880" y="5486400"/>
            <a:ext cx="845820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пид, Октавиан и Антоний въезжают в 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дел территор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1523880"/>
            <a:ext cx="8534160" cy="492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5257800" y="3809880"/>
            <a:ext cx="1440" cy="22482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5600" y="5257800"/>
            <a:ext cx="17154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Октави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59680" y="4419720"/>
            <a:ext cx="14457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Авгу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040" y="15235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лавлена благодаря истории любви к римскому полководцу Марку Антонию. В годы её правления Египет был покорён Римом, сама Клеопатра покончила жизнь самоубийством, чтобы не стать пленницей первого римского императора Октавиана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Файл:Cleopatra and Caesar by Jean-Leon-Gerome.jpg"/>
          <p:cNvPicPr/>
          <p:nvPr/>
        </p:nvPicPr>
        <p:blipFill>
          <a:blip r:embed="rId2"/>
          <a:stretch/>
        </p:blipFill>
        <p:spPr>
          <a:xfrm>
            <a:off x="380880" y="1447920"/>
            <a:ext cx="391968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6095880"/>
            <a:ext cx="4191120" cy="609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и Цез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Файл:Cleopatra visits Antony.jpg"/>
          <p:cNvPicPr/>
          <p:nvPr/>
        </p:nvPicPr>
        <p:blipFill>
          <a:blip r:embed="rId2"/>
          <a:stretch/>
        </p:blipFill>
        <p:spPr>
          <a:xfrm>
            <a:off x="482760" y="1523880"/>
            <a:ext cx="8177040" cy="49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943600"/>
            <a:ext cx="83059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плывёт к Анто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жение у мыса Акц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Файл:Castro Battle of Actium.jpg"/>
          <p:cNvPicPr/>
          <p:nvPr/>
        </p:nvPicPr>
        <p:blipFill>
          <a:blip r:embed="rId2"/>
          <a:stretch/>
        </p:blipFill>
        <p:spPr>
          <a:xfrm>
            <a:off x="152280" y="1658880"/>
            <a:ext cx="8991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4T14:19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