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A0B-C77F-40EB-B288-05CDD170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C2E-BEFF-4FC1-B97F-47F86542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79D-8BE6-438E-8340-3E546CDD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05A-54F2-4EB4-9DA5-BEA00C43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578-EB18-4B6E-8CC1-9C0BDDA5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AEC-3481-4708-9FB4-C80AD217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2BF-AC82-4FC3-84C0-6A2862D5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644-D464-4F6C-9743-A92658C2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70D-BEAB-46ED-889C-2AF47063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EA4-8732-4A67-A072-1311D4A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68C-9AE8-4FF5-8F17-A95CF02B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8B2-7C48-47B1-BA44-7B270518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3F91-44EE-472E-A618-9EAE52DC4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pload.wikimedia.org/wikipedia/commons/2/23/Karl_Theodor_von_Piloty_Murder_of_Caesar_1865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pload.wikimedia.org/wikipedia/commons/a/ac/Cesar-sa_mort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pload.wikimedia.org/wikipedia/commons/9/9e/Caesar%252C_Gaius_Julius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Marcus_Licinius_Crassus_Louvre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file:///upload.wikimedia.org/wikipedia/commons/1/10/Pompey1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25146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00"/>
                </a:solidFill>
                <a:latin typeface="Arial"/>
              </a:rPr>
              <a:t>« Единовластие Цезар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952880"/>
            <a:ext cx="6248520" cy="1905120"/>
          </a:xfrm>
          <a:prstGeom prst="rect">
            <a:avLst/>
          </a:prstGeom>
          <a:solidFill>
            <a:srgbClr val="c0806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ая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зарь всюду хотел быть первым, но у него не получалось. Тогда он решил завоевать любовь простого народа. Со всеми был ласков и приветлив, тратил свои деньги на угощения для неимущих, но в душе он их ненавидел. Он умело использовал ненависть бедняков к сенаторам, обещал улучшить жизнь, если придёт к вл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озвышение Цезар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Узнаем об этом, прочитав пункт 3 на стр. 239-2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авоевания Цезар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ейти Рубикó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ылатая фраза, выражение, означающая: сделать бесповоротный шаг, совершить решительный поступок, пройти «точку невозвращени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рылатое выраж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лицах города Цезаря встречала беднота. Помпей и Сенат в страхе бежали на Балканы, где попытались набрать войско для  борьбы с Цезарем. Но тот не оставил противникам шансов - он атаковал  и разбил войско Помпея. А вскоре сам Помпей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хват Цезарем вла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1857240"/>
            <a:ext cx="4191120" cy="3143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52280" y="5181480"/>
            <a:ext cx="4267440" cy="60984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упление Цезаря в Р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267080" cy="320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343040" y="1523880"/>
            <a:ext cx="4800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ираясь на легионы, Цезарь добился о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ната провозглашения себя дикта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льшинство своих обещаний он выполнил:  в провинциях солдатам  раздали землю, были заново отстроены Карфаген и Коринф- туда переселили бедня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хват Цезарем вла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Ветера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старый солдат, завершивший служ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Диктато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правитель, обладающий неограниченной властью и ни перед кем не отчитывающийся за свои поступ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пишем определ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государственные должности избирали только тех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го рекомендовал Цеза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го профиль чеканили на монетах, украшая голову диктатора коро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торжествах Цезарь садился на золотое кресло, напоминавшее тр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хват Цезарем вла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Гай Юлий Цезарь"/>
          <p:cNvPicPr/>
          <p:nvPr/>
        </p:nvPicPr>
        <p:blipFill>
          <a:blip r:embed="rId2"/>
          <a:stretch/>
        </p:blipFill>
        <p:spPr>
          <a:xfrm>
            <a:off x="152280" y="1905120"/>
            <a:ext cx="44197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бийство Цезаря 15 марта 44 г. 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Файл:Karl Theodor von Piloty Murder of Caesar 186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760" y="1371600"/>
            <a:ext cx="861048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бийство Це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Файл:Cesar-sa mor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440" y="1600200"/>
            <a:ext cx="87631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бийство Це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Гай Юлий Цезарь"/>
          <p:cNvPicPr/>
          <p:nvPr/>
        </p:nvPicPr>
        <p:blipFill>
          <a:blip r:embed="rId2"/>
          <a:stretch/>
        </p:blipFill>
        <p:spPr>
          <a:xfrm>
            <a:off x="266760" y="1523880"/>
            <a:ext cx="861048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.Римская армия стала наём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. Возвышение Цеза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3. Завоевания Цеза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4.Захват Цезарем вл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5. Гибель Цеза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мятник Цезарю в Р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Файл:Caesar, Gaius Juliu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523880"/>
            <a:ext cx="3821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одведём итог уро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514600"/>
            <a:ext cx="8076960" cy="3124080"/>
          </a:xfrm>
          <a:prstGeom prst="roundRect">
            <a:avLst>
              <a:gd name="adj" fmla="val 16667"/>
            </a:avLst>
          </a:prstGeom>
          <a:solidFill>
            <a:srgbClr val="c0806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опросы на стр. 2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514600"/>
            <a:ext cx="8076960" cy="3124080"/>
          </a:xfrm>
          <a:prstGeom prst="roundRect">
            <a:avLst>
              <a:gd name="adj" fmla="val 16667"/>
            </a:avLst>
          </a:prstGeom>
          <a:solidFill>
            <a:srgbClr val="c0806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араграф 52, записи, вопрос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вторить термины и д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Задание на урок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« Изменилось ли управление Римским государством после захвата власти Цезарем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43400" y="13716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 в. до н.э. армия стала набираться из неимущих граждан, которым платили жалование. </a:t>
            </a: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Как вы думаете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менения в римской арм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Римская армия"/>
          <p:cNvPicPr/>
          <p:nvPr/>
        </p:nvPicPr>
        <p:blipFill>
          <a:blip r:embed="rId2"/>
          <a:stretch/>
        </p:blipFill>
        <p:spPr>
          <a:xfrm>
            <a:off x="152280" y="1371600"/>
            <a:ext cx="4191120" cy="5334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6172200"/>
            <a:ext cx="4343400" cy="5335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мская армия при Цез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менения в римской арм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16765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ле победы над Спартаком главными соперниками в борьбе за власть стали полководцы Красс и Помп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Марк Лициний Крас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600200"/>
            <a:ext cx="1828800" cy="297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4572000"/>
            <a:ext cx="182880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айл:Pompey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53080" y="2590920"/>
            <a:ext cx="2146320" cy="280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53080" y="5257800"/>
            <a:ext cx="228600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п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504960" y="152388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й Юлий Цезарь родился 12 июля 100 г. до н.э. В юности он сосредоточил все свои силы на политической деятельности. В свои 40 лет он стал консулом, одним из самых важных должностных лиц в управлении. Осознавая, что Римская республика уже приближается к своему закату, он сделал все возможное, чтобы ограничить власть сената, создав первый триумви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Гай Юлий Цезарь"/>
          <p:cNvPicPr/>
          <p:nvPr/>
        </p:nvPicPr>
        <p:blipFill>
          <a:blip r:embed="rId2"/>
          <a:stretch/>
        </p:blipFill>
        <p:spPr>
          <a:xfrm>
            <a:off x="228600" y="1523880"/>
            <a:ext cx="3122640" cy="4572000"/>
          </a:xfrm>
          <a:prstGeom prst="rect">
            <a:avLst/>
          </a:prstGeom>
          <a:ln w="25560">
            <a:solidFill>
              <a:srgbClr val="c0806c"/>
            </a:solidFill>
            <a:miter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менения в римской арм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019920"/>
            <a:ext cx="312408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й Юлий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Полководе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-  военачальник, военный вожд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весторо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лжность охраны имущества,  ведение финансовых де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апишем определе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Эди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– человек, осуществляющий надзор за городским хозяйств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Понтифи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высокая жреческая должнос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апишем термин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Претор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– высший пост судьи , следующий по значению за консулом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апишем термин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3T17:24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