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16CC6-AAF2-436A-8AEC-BC003F9B7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7FFF3-60B1-4FE2-B0EB-9C6EF2167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B797-18C3-41D0-AA52-A4C184DAE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0792-0DFB-462C-B3F3-DB3FE808B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BBD1-31B8-450A-B766-30467F55F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DA25F-2860-4911-8EDD-509F2FEE15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CE07-35CC-4425-A53B-F428E2C07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627B-7E7C-47CC-802F-690E81440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76D5A-85E6-4482-8029-376C5669F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170A7-558B-460E-BB79-544183C77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38F58-5160-4D15-838F-C845BAF30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A2953-A712-480F-9D31-D93A45732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269b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0B3B8-DC96-4174-9FC9-4B7428D7A0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26269b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0666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Arial"/>
              </a:rPr>
              <a:t>Тема урок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33160" y="2286000"/>
            <a:ext cx="838188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cc00"/>
                </a:solidFill>
                <a:latin typeface="Arial"/>
              </a:rPr>
              <a:t>«Либеральные реформы 60-70-х годов XIX века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286000" y="228600"/>
            <a:ext cx="457200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стория России 8 кла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5181480"/>
            <a:ext cx="6400800" cy="167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атериал разработан учителем истор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ОУ Будинской ООШ Тверской обла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нтоненковой Анжеликой Викторовно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26269b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66760" y="-360"/>
            <a:ext cx="861048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Земская реформ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1542960" y="1219320"/>
            <a:ext cx="6058080" cy="3448080"/>
          </a:xfrm>
          <a:prstGeom prst="rect">
            <a:avLst/>
          </a:prstGeom>
          <a:ln w="76320">
            <a:solidFill>
              <a:srgbClr val="009999"/>
            </a:solidFill>
            <a:miter/>
          </a:ln>
        </p:spPr>
      </p:pic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4495680"/>
            <a:ext cx="9067680" cy="2362320"/>
          </a:xfrm>
          <a:prstGeom prst="rect">
            <a:avLst/>
          </a:prstGeom>
          <a:solidFill>
            <a:srgbClr val="ffff99"/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 января 1864 г.было введено «Положение о земски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учреждениях». В уездах и губерниях создавались органы местного самоуправления-земства.Депутатов избирали по 3 куриям – землевладельцы, городск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избиратели, сельские общества.В 1 и 2 куриях выборы проводились на основе имущественного ценза,а в 3 они были многоступенчатыми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26269b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Text Box 5"/>
          <p:cNvGrpSpPr/>
          <p:nvPr/>
        </p:nvGrpSpPr>
        <p:grpSpPr>
          <a:xfrm>
            <a:off x="304920" y="1676520"/>
            <a:ext cx="8686440" cy="4952520"/>
            <a:chOff x="304920" y="1676520"/>
            <a:chExt cx="8686440" cy="4952520"/>
          </a:xfrm>
        </p:grpSpPr>
        <p:pic>
          <p:nvPicPr>
            <p:cNvPr id="64" name="Text Box 5" descr=""/>
            <p:cNvPicPr/>
            <p:nvPr/>
          </p:nvPicPr>
          <p:blipFill>
            <a:blip r:embed="rId1"/>
            <a:stretch/>
          </p:blipFill>
          <p:spPr>
            <a:xfrm>
              <a:off x="304920" y="1676520"/>
              <a:ext cx="8686440" cy="4952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386640" y="1749600"/>
              <a:ext cx="8472600" cy="475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1" marL="743040" indent="-285840">
                <a:lnSpc>
                  <a:spcPct val="9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4" marL="2057400" indent="-228600">
                <a:lnSpc>
                  <a:spcPct val="100000"/>
                </a:lnSpc>
                <a:spcBef>
                  <a:spcPts val="799"/>
                </a:spcBef>
                <a:buClr>
                  <a:srgbClr val="000000"/>
                </a:buClr>
                <a:buFont typeface="Wingdings" charset="2"/>
                <a:buChar char=""/>
                <a:tabLst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alibri"/>
                </a:rPr>
                <a:t>делами местного значения,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lvl="4" marL="2057400" indent="-228600">
                <a:lnSpc>
                  <a:spcPct val="100000"/>
                </a:lnSpc>
                <a:spcBef>
                  <a:spcPts val="799"/>
                </a:spcBef>
                <a:buClr>
                  <a:srgbClr val="000000"/>
                </a:buClr>
                <a:buFont typeface="Wingdings" charset="2"/>
                <a:buChar char=""/>
                <a:tabLst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alibri"/>
                </a:rPr>
                <a:t>содействовали предпринимательству,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lvl="4" marL="2057400" indent="-228600">
                <a:lnSpc>
                  <a:spcPct val="100000"/>
                </a:lnSpc>
                <a:spcBef>
                  <a:spcPts val="799"/>
                </a:spcBef>
                <a:buClr>
                  <a:srgbClr val="000000"/>
                </a:buClr>
                <a:buFont typeface="Wingdings" charset="2"/>
                <a:buChar char=""/>
                <a:tabLst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alibri"/>
                </a:rPr>
                <a:t>содействовали просвещению,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lvl="4" marL="2057400" indent="-228600">
                <a:lnSpc>
                  <a:spcPct val="100000"/>
                </a:lnSpc>
                <a:spcBef>
                  <a:spcPts val="799"/>
                </a:spcBef>
                <a:buClr>
                  <a:srgbClr val="000000"/>
                </a:buClr>
                <a:buFont typeface="Wingdings" charset="2"/>
                <a:buChar char=""/>
                <a:tabLst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alibri"/>
                </a:rPr>
                <a:t>содействовали здравоохранению — проводили работу, на которую у государства не находилось средств.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Земства ведал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26269b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Земств не было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1752480"/>
            <a:ext cx="3124080" cy="1676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рхангельс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009960" y="4876920"/>
            <a:ext cx="3124080" cy="16761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редней Аз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04920" y="3657600"/>
            <a:ext cx="3124080" cy="1676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страха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715000" y="3809880"/>
            <a:ext cx="3124080" cy="1676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Сибир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486400" y="1752480"/>
            <a:ext cx="3124080" cy="16765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ренбург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rot="2210400">
            <a:off x="3580920" y="1295280"/>
            <a:ext cx="486000" cy="1295640"/>
          </a:xfrm>
          <a:prstGeom prst="downArrow">
            <a:avLst>
              <a:gd name="adj1" fmla="val 50000"/>
              <a:gd name="adj2" fmla="val 6664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rot="20284200">
            <a:off x="4800240" y="1371240"/>
            <a:ext cx="485640" cy="3429000"/>
          </a:xfrm>
          <a:prstGeom prst="downArrow">
            <a:avLst>
              <a:gd name="adj1" fmla="val 50000"/>
              <a:gd name="adj2" fmla="val 17652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rot="18957600">
            <a:off x="4829040" y="1245960"/>
            <a:ext cx="486000" cy="1347480"/>
          </a:xfrm>
          <a:prstGeom prst="downArrow">
            <a:avLst>
              <a:gd name="adj1" fmla="val 50000"/>
              <a:gd name="adj2" fmla="val 6931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rot="999600">
            <a:off x="3646080" y="1457280"/>
            <a:ext cx="486000" cy="3505320"/>
          </a:xfrm>
          <a:prstGeom prst="downArrow">
            <a:avLst>
              <a:gd name="adj1" fmla="val 50000"/>
              <a:gd name="adj2" fmla="val 18031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26269b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Недостатки земской реформ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152280" y="1828800"/>
            <a:ext cx="4267440" cy="346716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0" y="1523880"/>
            <a:ext cx="45720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Непоследовательно выдержан принцип всесословности. Выборы строились по сословному признаку. При этом распределение по куриям давало значительные преимущества дворянам. Вокруг земст сгруппировалась наиболее энергичная, демократически настроенная интеллигенц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04920" y="5638680"/>
            <a:ext cx="3886200" cy="825480"/>
          </a:xfrm>
          <a:prstGeom prst="rect">
            <a:avLst/>
          </a:prstGeom>
          <a:solidFill>
            <a:srgbClr val="ffff99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рачи Земско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больницы в Дмитров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26269b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Городская реформ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0" y="1371600"/>
            <a:ext cx="4572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В 1870 г. была проведена городская реформа,     создавшая всесословные городские думы и управ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Избирателями были лица достигшие 25 лет и платившие городские налоги. Они в зависимости от доходов делились на 3 курии, избиравшие в городскую думу равное число гласн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152280" y="1463760"/>
            <a:ext cx="4316400" cy="48607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84" name=""/>
          <p:cNvSpPr/>
          <p:nvPr/>
        </p:nvSpPr>
        <p:spPr>
          <a:xfrm>
            <a:off x="0" y="5594400"/>
            <a:ext cx="4572000" cy="1191240"/>
          </a:xfrm>
          <a:prstGeom prst="rect">
            <a:avLst/>
          </a:prstGeom>
          <a:solidFill>
            <a:srgbClr val="ffff99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Здание купеческо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обрания 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алой Дмитров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26269b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Городская дума решала вопрос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Text Box 6"/>
          <p:cNvGrpSpPr/>
          <p:nvPr/>
        </p:nvGrpSpPr>
        <p:grpSpPr>
          <a:xfrm>
            <a:off x="380880" y="1676520"/>
            <a:ext cx="8762760" cy="5181120"/>
            <a:chOff x="380880" y="1676520"/>
            <a:chExt cx="8762760" cy="5181120"/>
          </a:xfrm>
        </p:grpSpPr>
        <p:pic>
          <p:nvPicPr>
            <p:cNvPr id="87" name="Text Box 6" descr=""/>
            <p:cNvPicPr/>
            <p:nvPr/>
          </p:nvPicPr>
          <p:blipFill>
            <a:blip r:embed="rId1"/>
            <a:stretch/>
          </p:blipFill>
          <p:spPr>
            <a:xfrm>
              <a:off x="380880" y="1676520"/>
              <a:ext cx="8762760" cy="518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" name=""/>
            <p:cNvSpPr/>
            <p:nvPr/>
          </p:nvSpPr>
          <p:spPr>
            <a:xfrm>
              <a:off x="461520" y="1730160"/>
              <a:ext cx="8549280" cy="503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lvl="3" marL="1486080" indent="-343080">
                <a:lnSpc>
                  <a:spcPct val="100000"/>
                </a:lnSpc>
                <a:spcBef>
                  <a:spcPts val="700"/>
                </a:spcBef>
                <a:tabLst>
                  <a:tab algn="l" pos="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внутреннего самоуправлени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lvl="3" marL="1486080" indent="-343080">
                <a:lnSpc>
                  <a:spcPct val="100000"/>
                </a:lnSpc>
                <a:spcBef>
                  <a:spcPts val="700"/>
                </a:spcBef>
                <a:buClr>
                  <a:srgbClr val="000000"/>
                </a:buClr>
                <a:buFont typeface="Wingdings" charset="2"/>
                <a:buChar char="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образования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lvl="3" marL="1486080" indent="-343080">
                <a:lnSpc>
                  <a:spcPct val="100000"/>
                </a:lnSpc>
                <a:spcBef>
                  <a:spcPts val="700"/>
                </a:spcBef>
                <a:buClr>
                  <a:srgbClr val="000000"/>
                </a:buClr>
                <a:buFont typeface="Wingdings" charset="2"/>
                <a:buChar char="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медицинского обслуживания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lvl="3" marL="1486080" indent="-343080">
                <a:lnSpc>
                  <a:spcPct val="100000"/>
                </a:lnSpc>
                <a:spcBef>
                  <a:spcPts val="700"/>
                </a:spcBef>
                <a:buClr>
                  <a:srgbClr val="000000"/>
                </a:buClr>
                <a:buFont typeface="Wingdings" charset="2"/>
                <a:buChar char="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благоустройством города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lvl="3" marL="1486080" indent="-343080">
                <a:lnSpc>
                  <a:spcPct val="100000"/>
                </a:lnSpc>
                <a:spcBef>
                  <a:spcPts val="700"/>
                </a:spcBef>
                <a:buClr>
                  <a:srgbClr val="000000"/>
                </a:buClr>
                <a:buFont typeface="Wingdings" charset="2"/>
                <a:buChar char="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Развитие внешней торговли и промышленности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lvl="3" marL="1486080" indent="-343080">
                <a:lnSpc>
                  <a:spcPct val="100000"/>
                </a:lnSpc>
                <a:spcBef>
                  <a:spcPts val="700"/>
                </a:spcBef>
                <a:buClr>
                  <a:srgbClr val="000000"/>
                </a:buClr>
                <a:buFont typeface="Wingdings" charset="2"/>
                <a:buChar char=""/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Содержание полиции и тюрем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800280" indent="-457200"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marL="800280" indent="-457200">
                <a:lnSpc>
                  <a:spcPct val="90000"/>
                </a:lnSpc>
                <a:spcBef>
                  <a:spcPts val="7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imes New Roman"/>
                </a:rPr>
                <a:t>Для контроля за земской и городской деятельностью было создано присутствие по городским делам.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269b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343040" y="1371600"/>
            <a:ext cx="48006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В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ноябре 1864 г</a:t>
            </a: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. были приняты новые судебные уставы. Суд стал равным для всех сословий, гласным. Провозглашались независимость судей, состязательность и выборность ряда судебных орган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52280" y="2127240"/>
            <a:ext cx="4419720" cy="26020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удебная реформ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9480" y="4876920"/>
            <a:ext cx="3810240" cy="459720"/>
          </a:xfrm>
          <a:prstGeom prst="rect">
            <a:avLst/>
          </a:prstGeom>
          <a:solidFill>
            <a:srgbClr val="ffff99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уд присяжны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269b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удебная реформ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62120" y="2286000"/>
            <a:ext cx="2666880" cy="1981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ировы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209680"/>
            <a:ext cx="2666880" cy="19814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Общ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368800">
            <a:off x="3306240" y="1300320"/>
            <a:ext cx="486000" cy="1600200"/>
          </a:xfrm>
          <a:prstGeom prst="downArrow">
            <a:avLst>
              <a:gd name="adj1" fmla="val 50000"/>
              <a:gd name="adj2" fmla="val 8231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rot="18829200">
            <a:off x="4694040" y="1248840"/>
            <a:ext cx="485640" cy="1644480"/>
          </a:xfrm>
          <a:prstGeom prst="downArrow">
            <a:avLst>
              <a:gd name="adj1" fmla="val 50000"/>
              <a:gd name="adj2" fmla="val 8465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920" y="4419720"/>
            <a:ext cx="3733560" cy="2209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ссматривали мелк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головные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ражданские де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257800" y="4419720"/>
            <a:ext cx="3733920" cy="2209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Рассматривал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уголов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и сложны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ражданские де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269b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удебная реформ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52280" y="2133720"/>
            <a:ext cx="4419720" cy="26668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Реформа установила: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1) гласность ведения суд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2) состязательность сторон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3)  обеспечивалась присутствием на суде прокурора и адвока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4952880"/>
            <a:ext cx="4343400" cy="459720"/>
          </a:xfrm>
          <a:prstGeom prst="rect">
            <a:avLst/>
          </a:prstGeom>
          <a:solidFill>
            <a:srgbClr val="ffff99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Знак волостного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удь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269b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3276720" y="1447920"/>
            <a:ext cx="586728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Апелляционной инстанцией была судебная палата, но она рассматривала споры о мер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наказания, и не могла пересмотреть решение присяжны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удебная палата рассматривала так же дела о должностн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реступлениях высокопоставленных чиновни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Высшей Судебной инстанцией оставался Сенат. Царь не мог изменить пригово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Он мог только помиловат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33520" y="1447920"/>
            <a:ext cx="2514600" cy="48006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удебная реформ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52280" y="6365880"/>
            <a:ext cx="3353040" cy="459720"/>
          </a:xfrm>
          <a:prstGeom prst="rect">
            <a:avLst/>
          </a:prstGeom>
          <a:solidFill>
            <a:srgbClr val="ffff99"/>
          </a:solidFill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Мировой судь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26269b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Должны узнать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реформы 60-70 х гг.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установить  их либеральный характер, с одной стороны, и ограниченность, с друго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ffff00"/>
                </a:solidFill>
                <a:uFillTx/>
                <a:latin typeface="Arial"/>
              </a:rPr>
              <a:t>Должны учиться</a:t>
            </a: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 работать с историческими источниками и добывать нужную информацию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Сегодня на урок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269b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191120" y="1447560"/>
            <a:ext cx="49528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В 1874 г.была проведена военная реформа по инициативе Д.А.Милю тин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Рекрутский набор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Arial"/>
              </a:rPr>
              <a:t>заменялся всеобщей воинской повинностью с 20-летнего возрас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485640" y="1447920"/>
            <a:ext cx="3494160" cy="449568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оенная  реформ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5959440"/>
            <a:ext cx="4572000" cy="825480"/>
          </a:xfrm>
          <a:prstGeom prst="rect">
            <a:avLst/>
          </a:prstGeom>
          <a:solidFill>
            <a:srgbClr val="ffff99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Военный минист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Д.А.Милют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269b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Согласно указу от 1 января 1874 года уставу, призывались юноши с 20 лет. Общий срок службы в сухопутных войсках составлял 15 лет, из них 6 – действительной службы, 9 – в запасе; на флоте – 10 лет, 7 лет – действительной службы, 3 года – в запасе. Кто имел образование срок сокращался до 4 лет(окончивших начальные училища), до 6 месяцев – высше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От службы освобождались  единственные сыновья и единственные кормильцы семь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Военная  реформа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269b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Когда была проведена реформа образования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Что являлось основным типом учебного заведения средней ступен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На какие виды подразделялась гимназ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Что изучали в классических гимназиях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В реальных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Реформа образован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269b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Прямоугольник 3"/>
          <p:cNvGrpSpPr/>
          <p:nvPr/>
        </p:nvGrpSpPr>
        <p:grpSpPr>
          <a:xfrm>
            <a:off x="0" y="1295280"/>
            <a:ext cx="6324120" cy="3733560"/>
            <a:chOff x="0" y="1295280"/>
            <a:chExt cx="6324120" cy="3733560"/>
          </a:xfrm>
        </p:grpSpPr>
        <p:pic>
          <p:nvPicPr>
            <p:cNvPr id="117" name="Прямоугольник 3" descr=""/>
            <p:cNvPicPr/>
            <p:nvPr/>
          </p:nvPicPr>
          <p:blipFill>
            <a:blip r:embed="rId1"/>
            <a:stretch/>
          </p:blipFill>
          <p:spPr>
            <a:xfrm>
              <a:off x="0" y="1295280"/>
              <a:ext cx="6324120" cy="373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8" name=""/>
            <p:cNvSpPr/>
            <p:nvPr/>
          </p:nvSpPr>
          <p:spPr>
            <a:xfrm>
              <a:off x="25920" y="1315440"/>
              <a:ext cx="6271920" cy="368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Прямоугольник 3"/>
          <p:cNvGrpSpPr/>
          <p:nvPr/>
        </p:nvGrpSpPr>
        <p:grpSpPr>
          <a:xfrm>
            <a:off x="4114800" y="3693960"/>
            <a:ext cx="5028840" cy="3392280"/>
            <a:chOff x="4114800" y="3693960"/>
            <a:chExt cx="5028840" cy="3392280"/>
          </a:xfrm>
        </p:grpSpPr>
        <p:pic>
          <p:nvPicPr>
            <p:cNvPr id="120" name="Прямоугольник 3" descr=""/>
            <p:cNvPicPr/>
            <p:nvPr/>
          </p:nvPicPr>
          <p:blipFill>
            <a:blip r:embed="rId2"/>
            <a:stretch/>
          </p:blipFill>
          <p:spPr>
            <a:xfrm>
              <a:off x="4114800" y="3693960"/>
              <a:ext cx="5028840" cy="339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1" name=""/>
            <p:cNvSpPr/>
            <p:nvPr/>
          </p:nvSpPr>
          <p:spPr>
            <a:xfrm>
              <a:off x="4137120" y="3710880"/>
              <a:ext cx="4983840" cy="335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Реформа образовани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269b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Стр. 155 – 157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оработаем с документам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6269b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Параграф 21 – 22, записи, вопросы, задания в рабочей тетрад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26269b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Выполните тест по теме:          « Крестьянская реформа 1861 года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роверим домашнее задани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26269b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6840" y="159984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1 – а       7-б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13 - б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2 – в       8 - в 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14 - 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3 – б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   9 – в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15 - 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4 – б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  10 - 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5 – а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  11 – 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6 – а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  12 – 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Проверьте себя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26269b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  </a:t>
            </a: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Менее   7 – «2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От 7 до  10 -  «3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От 11 до 14 – «4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          </a:t>
            </a: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1" lang="en-US" sz="4800" spc="-1" strike="noStrike">
                <a:solidFill>
                  <a:srgbClr val="ffff00"/>
                </a:solidFill>
                <a:latin typeface="Arial"/>
              </a:rPr>
              <a:t>15 – «5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Оцените полученные результаты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26269b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52280" y="1371240"/>
            <a:ext cx="87631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9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Реформы местного самоуправле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Судебная реформ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Военная реформ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Реформа в области просвеще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Претворение реформ в жизн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901"/>
              </a:spcBef>
              <a:buClr>
                <a:srgbClr val="ffff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Конституционные мета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228600"/>
            <a:ext cx="8229600" cy="10666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План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26269b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Задания на урок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28600" y="1676520"/>
            <a:ext cx="8763120" cy="5029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ознакомьтесь с реформами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выделите их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оложительные и отрицательны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тороны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26269b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228240" y="228240"/>
            <a:ext cx="8915400" cy="66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« Какие ждут нас в будущем дел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Об этом думать вы должны всё чащ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И если гражданин ты настоящий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Большой отдачи ждёт от нас стра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И подымай, бездумью вопреки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Свою решимость до конца боротьс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И может от одной твоей ру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Зависит всё, что будущем зовется...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26269b"/>
            </a:gs>
            <a:gs pos="100000">
              <a:srgbClr val="3333cc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5345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ffffff"/>
                </a:solidFill>
                <a:uFillTx/>
                <a:latin typeface="Arial"/>
              </a:rPr>
              <a:t>Реформа</a:t>
            </a:r>
            <a:r>
              <a:rPr b="1" lang="en-US" sz="4400" spc="-1" strike="noStrike">
                <a:solidFill>
                  <a:srgbClr val="ffff00"/>
                </a:solidFill>
                <a:latin typeface="Arial"/>
              </a:rPr>
              <a:t> – преобразование, изменение, переустройство какой-либо  стороны общественной жизни, не уничтожающее основ существующей социальной структуры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Запишем определе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2-04-01T11:58:5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