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E2C-9319-4B91-A4FB-74E30953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BAC7-616B-4C2D-BB3D-D5B3EAFA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1FF1-45FE-4988-8771-AF5C75C5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401E-553C-4138-9864-9B14BB04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9C84-42AF-418A-ACE9-C581D1AC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39E-EAE9-46D4-96E4-92FBB604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2F19-94F9-4713-9EEB-64515A34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0F32-8F97-4187-9A1C-40194DB2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6DA-038B-4DA8-AA0B-1BC6916D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5DF-0E1F-4D8B-805D-B59DF0CF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B24-B7E0-401A-9253-9E0B9925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A697-AC2F-430B-ACF0-0D0BD7F9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71BA-9737-46EB-848C-928D273B78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677880" y="45720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Constantia"/>
              </a:rPr>
              <a:t>11</a:t>
            </a:r>
            <a:r>
              <a:rPr b="0" i="1" lang="ru-RU" sz="4800" spc="-1" strike="noStrike">
                <a:solidFill>
                  <a:srgbClr val="ffffff"/>
                </a:solidFill>
                <a:latin typeface="Constantia"/>
              </a:rPr>
              <a:t> апрел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62120" y="2065320"/>
            <a:ext cx="678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ffff"/>
                </a:solidFill>
                <a:latin typeface="Constantia"/>
              </a:rPr>
              <a:t>Тема урока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i="1" lang="ru-RU" sz="7200" spc="-1" strike="noStrike">
                <a:solidFill>
                  <a:srgbClr val="ffffff"/>
                </a:solidFill>
                <a:latin typeface="Constantia"/>
              </a:rPr>
              <a:t>«Восстание Спартак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"/>
          <p:cNvPicPr/>
          <p:nvPr/>
        </p:nvPicPr>
        <p:blipFill>
          <a:blip r:embed="rId1"/>
          <a:stretch/>
        </p:blipFill>
        <p:spPr>
          <a:xfrm>
            <a:off x="6480" y="9360"/>
            <a:ext cx="9137520" cy="68439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звержение Везувия 79 г. до н.э. ( реконструкц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Файл:Pompeii the last day 1.jpg"/>
          <p:cNvPicPr/>
          <p:nvPr/>
        </p:nvPicPr>
        <p:blipFill>
          <a:blip r:embed="rId2"/>
          <a:stretch/>
        </p:blipFill>
        <p:spPr>
          <a:xfrm>
            <a:off x="685800" y="1447920"/>
            <a:ext cx="76960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419720" y="380520"/>
            <a:ext cx="4114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Лучше пойти на крайний риск ради свободы, чем рисковать своей жизнью на арене ради потехи зрител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парт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4" descr="spartak.gif"/>
          <p:cNvPicPr/>
          <p:nvPr/>
        </p:nvPicPr>
        <p:blipFill>
          <a:blip r:embed="rId2"/>
          <a:stretch/>
        </p:blipFill>
        <p:spPr>
          <a:xfrm>
            <a:off x="533520" y="609480"/>
            <a:ext cx="3886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Рисунок7"/>
          <p:cNvPicPr/>
          <p:nvPr/>
        </p:nvPicPr>
        <p:blipFill>
          <a:blip r:embed="rId2"/>
          <a:stretch/>
        </p:blipFill>
        <p:spPr>
          <a:xfrm>
            <a:off x="762120" y="137160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3"/>
          <p:cNvSpPr/>
          <p:nvPr/>
        </p:nvSpPr>
        <p:spPr>
          <a:xfrm>
            <a:off x="457200" y="304920"/>
            <a:ext cx="8229600" cy="990360"/>
          </a:xfrm>
          <a:prstGeom prst="rect">
            <a:avLst/>
          </a:prstGeom>
          <a:solidFill>
            <a:srgbClr val="3264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егство с горы Везу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677880" y="457200"/>
            <a:ext cx="77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onstantia"/>
              </a:rPr>
              <a:t>Походы восставших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762120" y="2065320"/>
            <a:ext cx="678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ffffff"/>
                </a:solidFill>
                <a:uFillTx/>
                <a:latin typeface="Constantia"/>
              </a:rPr>
              <a:t>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Constantia"/>
              </a:rPr>
              <a:t>            </a:t>
            </a:r>
            <a:r>
              <a:rPr b="0" i="1" lang="ru-RU" sz="5400" spc="-1" strike="noStrike">
                <a:solidFill>
                  <a:srgbClr val="ffffff"/>
                </a:solidFill>
                <a:latin typeface="Constantia"/>
              </a:rPr>
              <a:t>стр. 236- 23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Марк Лици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Кр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Марк Лициний Красс"/>
          <p:cNvPicPr/>
          <p:nvPr/>
        </p:nvPicPr>
        <p:blipFill>
          <a:blip r:embed="rId2"/>
          <a:stretch/>
        </p:blipFill>
        <p:spPr>
          <a:xfrm>
            <a:off x="762120" y="1600200"/>
            <a:ext cx="290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следняя би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Луций Лициний Лукулл"/>
          <p:cNvPicPr/>
          <p:nvPr/>
        </p:nvPicPr>
        <p:blipFill>
          <a:blip r:embed="rId2"/>
          <a:stretch/>
        </p:blipFill>
        <p:spPr>
          <a:xfrm>
            <a:off x="1143000" y="1647720"/>
            <a:ext cx="2719440" cy="4067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9"/>
          <p:cNvSpPr/>
          <p:nvPr/>
        </p:nvSpPr>
        <p:spPr>
          <a:xfrm>
            <a:off x="609480" y="5638680"/>
            <a:ext cx="3581640" cy="457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ций Лициний Луку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Файл:Pompey1.jpg"/>
          <p:cNvPicPr/>
          <p:nvPr/>
        </p:nvPicPr>
        <p:blipFill>
          <a:blip r:embed="rId3"/>
          <a:stretch/>
        </p:blipFill>
        <p:spPr>
          <a:xfrm>
            <a:off x="5029200" y="1523880"/>
            <a:ext cx="3314880" cy="43243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2"/>
          <p:cNvSpPr/>
          <p:nvPr/>
        </p:nvSpPr>
        <p:spPr>
          <a:xfrm>
            <a:off x="4800600" y="5867280"/>
            <a:ext cx="3581280" cy="457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ней Помп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677880" y="45720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onstantia"/>
              </a:rPr>
              <a:t>Расправа с восставшим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8"/>
          <p:cNvPicPr/>
          <p:nvPr/>
        </p:nvPicPr>
        <p:blipFill>
          <a:blip r:embed="rId2"/>
          <a:stretch/>
        </p:blipFill>
        <p:spPr>
          <a:xfrm>
            <a:off x="990720" y="2057400"/>
            <a:ext cx="7162560" cy="3965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677880" y="457200"/>
            <a:ext cx="77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onstantia"/>
              </a:rPr>
              <a:t>Причины поражени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57200" y="1600200"/>
            <a:ext cx="80773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 Плохое вооружение восставш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 У Спартака не было четкого плана действ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- Восставших обманули пира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677880" y="45720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onstantia"/>
              </a:rPr>
              <a:t>Подведём ито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04920" y="342900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просы на стр. 23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677880" y="45720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onstantia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33520" y="2468520"/>
            <a:ext cx="8076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араграф 51, вопрос 1 письм., запис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905120" y="5410080"/>
            <a:ext cx="678168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ал подготовле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677880" y="45720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ffffff"/>
                </a:solidFill>
                <a:uFillTx/>
                <a:latin typeface="Constantia"/>
              </a:rPr>
              <a:t>Сегодня на урок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533520" y="1447920"/>
            <a:ext cx="8076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- познакомимся с восстанием Спартак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Выясним причины его возникновения, ход и итоги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выясним какое значение имело это восс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677880" y="45720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Constantia"/>
              </a:rPr>
              <a:t>План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1523880"/>
            <a:ext cx="784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Первая победа над римскими войск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Армия Спарт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Походы восставши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Рабы в ловуш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nstantia"/>
              </a:rPr>
              <a:t>Последняя би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677880" y="457200"/>
            <a:ext cx="77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Задание на урок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33520" y="1523880"/>
            <a:ext cx="7924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думайте , почему рабы потерпели поражение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- Могли ли они одержать победу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Запишем дат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74-71 г. до н.э. –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осстание Спарта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762120" y="2065320"/>
            <a:ext cx="6783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ричины восстани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помните, каким было положение рабов в Риме и попытайтесь предположить, почему начало это восст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Рисунок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746280" y="1600200"/>
            <a:ext cx="3458880" cy="4525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762120" y="2065320"/>
            <a:ext cx="6783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ричины восстани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1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копление большой массой рабов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жестокое обращение с рабами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ртак (ок. 120 г. до н. э. — 71 г. до н. э.), вождь крупнейшего восстания рабов в Древнем Риме. Происходит из племени медов во Фракии. Был на службе у царя Митридата. Попал в плен к римлянам и был продан в гладиаторы. Благодаря высокой доблести добился личной свободы. Будучи непримиримым врагом Рима и искренним борцом за человеческую свободу, в 74 г. до н. э. возглавил восстание раб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25720_5_1254503106.jpg"/>
          <p:cNvPicPr/>
          <p:nvPr/>
        </p:nvPicPr>
        <p:blipFill>
          <a:blip r:embed="rId2"/>
          <a:stretch/>
        </p:blipFill>
        <p:spPr>
          <a:xfrm>
            <a:off x="4572000" y="533520"/>
            <a:ext cx="387360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9"/>
          <p:cNvSpPr/>
          <p:nvPr/>
        </p:nvSpPr>
        <p:spPr>
          <a:xfrm>
            <a:off x="4572000" y="5105520"/>
            <a:ext cx="3886200" cy="609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арт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762120" y="2065320"/>
            <a:ext cx="6783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Рисунок3"/>
          <p:cNvPicPr/>
          <p:nvPr/>
        </p:nvPicPr>
        <p:blipFill>
          <a:blip r:embed="rId2"/>
          <a:stretch/>
        </p:blipFill>
        <p:spPr>
          <a:xfrm>
            <a:off x="380880" y="380880"/>
            <a:ext cx="8305920" cy="60962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6"/>
          <p:cNvSpPr/>
          <p:nvPr/>
        </p:nvSpPr>
        <p:spPr>
          <a:xfrm>
            <a:off x="4265640" y="3800520"/>
            <a:ext cx="501480" cy="527040"/>
          </a:xfrm>
          <a:custGeom>
            <a:avLst/>
            <a:gdLst>
              <a:gd name="textAreaLeft" fmla="*/ 114480 w 501480"/>
              <a:gd name="textAreaRight" fmla="*/ 387000 w 501480"/>
              <a:gd name="textAreaTop" fmla="*/ 120240 h 527040"/>
              <a:gd name="textAreaBottom" fmla="*/ 406800 h 527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995640" y="32432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Капу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650320" y="3745080"/>
            <a:ext cx="15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 Cyr"/>
              </a:rPr>
              <a:t>г.Везу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876920" y="457200"/>
            <a:ext cx="3809880" cy="28195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74 г. до н.э.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диатор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коле города Капу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сь восстание п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водительс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арта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3-28T19:02:3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