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6.png" ContentType="image/png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FCAC-8E5C-4AD0-B6F8-D229F4A16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E5F8-D1A2-43A8-8674-8A1A7D92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5D8A-0143-42F9-8F26-06A674DC1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1146-6CEE-4FF8-A183-9510FF61A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A0C0-2782-43CE-B0D8-436A2EDE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5BB1-B2B6-4CA6-BB0A-48CC2228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5985-3012-4F56-AA07-D680FDA7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EC40-624A-481A-93D7-F747DA76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E6BD-7D03-471D-A442-C3DE6BCC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DFC7-50E2-4ADF-B196-4F589E22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A404-D9D7-45AA-ABE6-2A423092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66DC-3E81-461B-AE92-501A988D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BDC2-30C5-4AAF-9DE1-070209737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a/ad/TYBERIUSZ_GRAKCHUS.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0" y="125280"/>
            <a:ext cx="9296280" cy="6607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3300"/>
                </a:solidFill>
                <a:latin typeface="Arial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28520" y="228600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« Земельный зако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братьев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Гракхов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607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219320" y="1980720"/>
            <a:ext cx="670536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лительные заморские пох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работка земли и выпас скота стоили дор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 было сбыта товара, производимого крестьян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ток массы раб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685800"/>
            <a:ext cx="7010640" cy="114300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чины разор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емледельц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607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Файл:TYBERIUSZ GRAKCHUS.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495360"/>
            <a:ext cx="7677000" cy="5867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3520" y="4952880"/>
            <a:ext cx="8076960" cy="121932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ратья Гракхи в детстве с материю Корнел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фриканской Младш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6074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7600" y="151920"/>
            <a:ext cx="7048800" cy="114300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иберий Грак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3520" y="1181160"/>
            <a:ext cx="8076960" cy="4494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5181480"/>
            <a:ext cx="8991720" cy="1524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« Даже дикие звери имеют норы и лого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а у тех, кто сражался и умирал за Рим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ет ничего, кроме воздуха и света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607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нятие земельного зако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1447920"/>
            <a:ext cx="7467480" cy="44956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Каждому владельц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решается иметь не бол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0 югеров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сли у него есть сыновья, 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каждого сына приходится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0 югеров, но на каждую сем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 может приходиться больш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0югеров земли(250 гектар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" descr=""/>
          <p:cNvPicPr/>
          <p:nvPr/>
        </p:nvPicPr>
        <p:blipFill>
          <a:blip r:embed="rId1"/>
          <a:stretch/>
        </p:blipFill>
        <p:spPr>
          <a:xfrm>
            <a:off x="-304920" y="125280"/>
            <a:ext cx="9144000" cy="66074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нятие земельного зако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447920"/>
            <a:ext cx="8076960" cy="44956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Излишки государственной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емли должны быть переданы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зну и из них нарезаются учас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 30 югеров бедн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ражданам в наследственную арен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дажа этих участ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тегорически запрещ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1" descr=""/>
          <p:cNvPicPr/>
          <p:nvPr/>
        </p:nvPicPr>
        <p:blipFill>
          <a:blip r:embed="rId1"/>
          <a:stretch/>
        </p:blipFill>
        <p:spPr>
          <a:xfrm>
            <a:off x="-304920" y="125280"/>
            <a:ext cx="9144000" cy="660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нятие земельного зако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447920"/>
            <a:ext cx="8076960" cy="44956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Для проведения рефор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здается специальная комиссия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х человек, избираем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родным собранием сроком на 1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правом последующ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избр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ТИБЕРИЙ ГРАК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"/>
          <p:cNvPicPr/>
          <p:nvPr/>
        </p:nvPicPr>
        <p:blipFill>
          <a:blip r:embed="rId1"/>
          <a:stretch/>
        </p:blipFill>
        <p:spPr>
          <a:xfrm>
            <a:off x="-304920" y="125280"/>
            <a:ext cx="9144000" cy="6607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нятие земельного зако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371600"/>
            <a:ext cx="7391520" cy="4876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Сенате Тиберий не нашё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держки, так как сенато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говорили другого народ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рибуна, Октавия, сор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мысел Тиберия. Октав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пользовал право вето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претил голос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 этот закон. Но Тибер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ратился со словами к Собр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"/>
          <p:cNvPicPr/>
          <p:nvPr/>
        </p:nvPicPr>
        <p:blipFill>
          <a:blip r:embed="rId1"/>
          <a:stretch/>
        </p:blipFill>
        <p:spPr>
          <a:xfrm>
            <a:off x="-304920" y="125280"/>
            <a:ext cx="9144000" cy="6607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696080" cy="144792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нятие земельного зако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1523880"/>
            <a:ext cx="7696080" cy="4724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« Может ли трибун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действующ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во вред народу, остава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в своей должности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раждане проголосовал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отив Окта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 лишили его звания трибу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"/>
          <p:cNvPicPr/>
          <p:nvPr/>
        </p:nvPicPr>
        <p:blipFill>
          <a:blip r:embed="rId1"/>
          <a:stretch/>
        </p:blipFill>
        <p:spPr>
          <a:xfrm>
            <a:off x="-304920" y="125280"/>
            <a:ext cx="9144000" cy="6607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162920" cy="114300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ибель Тибер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66680" y="1523880"/>
            <a:ext cx="6629400" cy="3841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607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286000" y="2057400"/>
            <a:ext cx="4876920" cy="3662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6781680" cy="114300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ратья Гракх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607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Сегодня на урок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670536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ассмотреть причины разорения крестьян в Риме и его последств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ознакомиться с реформой , выяснить её основные полож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ыяснить, каковы последствия этой рефор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607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294920" y="1828440"/>
            <a:ext cx="67057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просы на стр.23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6074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29492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араграф 50, вопросы, записи, раб. тетра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990720" y="304920"/>
            <a:ext cx="7162560" cy="124920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4800600"/>
            <a:ext cx="609624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ал подготовле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динской ООШ 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6074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670536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морские походы разоряли воинов – земледельц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иберий Гракх – заступник бедня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нятие земельного зак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ибель Тибер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ай Гракх продолжает д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607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Задание на урок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19320" y="2231640"/>
            <a:ext cx="670536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Подумайте , почему земельная реформа братьев Гракх была обречена на прова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019920" y="3809880"/>
            <a:ext cx="17208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6074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осле того, как римляне установили свою власть в средиземноморье, в самом государстве вспыхнула вражда между различными группами населения. В Риме началась эпоха гражданских войн. Их первой жертвой стал Тиберий Гракх, выступавший в защиту земледельцев Итал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607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143000" y="95256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рнулся римский крестьянин в Италию после длительных походов, а его земельный участок зарос сорняками, плетень развалился, сарай для скота пуст, т.к. жена вынуждена была продать быков. Чтобы восстановить хозяйство нужны были деньги, поэтому приходилось уходить на зарабо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304920"/>
            <a:ext cx="5486400" cy="76176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кт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607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219320" y="121932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 все крестьяне сразу продавали участок. Вернувшись, они пытались восстановить хозяйство. Но очень быстро разорялись. Соберёт, например, пшеницу, повезёт в город, а там за неё такую низкую цену предлагают, что хоть выбрасывай в ре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304920"/>
            <a:ext cx="5486400" cy="76176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кт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607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219320" y="990360"/>
            <a:ext cx="6858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рупные землевладельцы завозили пшеницу из Сицилии. Нанимать крестьян на работу было затратно, дешевле было использовать труд рабов. И хоть качество товара, произведённого рабами хуже, но их труд был дешёвле, поэтому крестьяне разорялис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304920"/>
            <a:ext cx="5486400" cy="76176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кт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607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219320" y="990360"/>
            <a:ext cx="6858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Каковы же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причин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разорен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крестьян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3-27T15:37:0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