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016-56F1-4337-BD39-97EEDF79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E3D-C30D-4700-BFAA-9952944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80E-5349-4A68-B0C1-1CE8305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AE5-6B9F-46B8-9FF3-3071B2E1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846-169D-435A-8E06-667659C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764-52BD-439E-897F-FDEF17DC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5B6-C90C-4A3A-A87C-E857AED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CF3-7288-47E6-9677-88450D1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612-6B19-4843-A539-C61E83F8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774-C2F6-437B-A7E7-FC94DA7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CF2-1234-42DD-A5BB-879467C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24B-91DE-49D0-B300-6FB930C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F33D-64A1-431D-AE32-3F9431B2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040" y="18288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Крестьянская реформа 1861 год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4952880"/>
            <a:ext cx="6629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Княгиня Елена Пав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князь Константин Никол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В.Н. Па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Кто не являлся сторонником отмены крепостного пра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неуплаченные в срок дол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разрешение на сбор на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учение об устройстве 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Недоимки – эт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разрешение выезд за гран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объявление амнистии политическим заключён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запрет на печатание зарубежной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7324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Какое событие нельзя отнести к российской «оттепел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30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33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36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В каком возрасте Александр Второй вступил  на прест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 -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7-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-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 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-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 -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 -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ерьте свои знания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енее 5 – «2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т 5 до 7 – «3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т 7 до 9 – «4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 – «5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тавьте себе оценку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Порвалась цепь велика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рвалась – рассокоч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дним концом по барин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ругим по мужику…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495680"/>
            <a:ext cx="4038480" cy="4572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 Нек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Был ли решен крестьянский вопрос реформой 1861 года?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176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…Я думаю, что и вы одного мнения со мною, следовательно, гораздо лучше, чтобы это произошло свыше, нежели сниз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9N1023"/>
          <p:cNvPicPr/>
          <p:nvPr/>
        </p:nvPicPr>
        <p:blipFill>
          <a:blip r:embed="rId1"/>
          <a:stretch/>
        </p:blipFill>
        <p:spPr>
          <a:xfrm>
            <a:off x="4800600" y="914400"/>
            <a:ext cx="4111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80880" y="1143000"/>
            <a:ext cx="3543480" cy="170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кретн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57-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58-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932360" y="1143000"/>
            <a:ext cx="3297240" cy="170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акционные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Главном комит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59-1860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211640" y="1989000"/>
            <a:ext cx="431640" cy="432000"/>
          </a:xfrm>
          <a:prstGeom prst="plus">
            <a:avLst>
              <a:gd name="adj" fmla="val 33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55640" y="3068640"/>
            <a:ext cx="7488360" cy="1655640"/>
          </a:xfrm>
          <a:prstGeom prst="downArrow">
            <a:avLst>
              <a:gd name="adj1" fmla="val 49981"/>
              <a:gd name="adj2" fmla="val 308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проекта об от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пост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Положений о крестьянах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755640" y="4800600"/>
            <a:ext cx="7626240" cy="18939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 февраля 18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ифест Александ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 освобождении крест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+16 правовых докум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лжны познакомиться с подготовкой и проведением крестьянской реформы 1861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выяснить, как к этой реформе отнеслось дворянство и крестья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егодн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60480" y="2103120"/>
            <a:ext cx="7680240" cy="425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стьяне получали личную свободу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елялись общегражданскими пра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чали землю, нов ограниченном размере и за выкуп на особых условиях ( от 3 до 12 десятин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реформ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14600" y="6400800"/>
            <a:ext cx="3657600" cy="457200"/>
          </a:xfrm>
          <a:prstGeom prst="wedgeRectCallout">
            <a:avLst>
              <a:gd name="adj1" fmla="val 41060"/>
              <a:gd name="adj2" fmla="val -190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десятина = 1,1 гек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крестьянской реформы 186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4920" y="2276640"/>
            <a:ext cx="8610480" cy="2752560"/>
          </a:xfrm>
          <a:prstGeom prst="bevel">
            <a:avLst>
              <a:gd name="adj" fmla="val 9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мер выкупа устанавлив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зависимости от величины об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апитализация из 6% годов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042920" y="5300640"/>
            <a:ext cx="15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об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руб.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43280" y="5300640"/>
            <a:ext cx="1512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р. –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р. –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716360" y="5300640"/>
            <a:ext cx="3311640" cy="86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(10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0):6=166р.66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крестьянской реформы 186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787320" y="2209680"/>
            <a:ext cx="7567560" cy="3743280"/>
          </a:xfrm>
          <a:prstGeom prst="bevel">
            <a:avLst>
              <a:gd name="adj" fmla="val 9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выкупной суммы крестьяне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и выплатить един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 выкупной суммы давало в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о (на 49 лет под 6% годов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057400" y="1828800"/>
            <a:ext cx="2376360" cy="576360"/>
          </a:xfrm>
          <a:prstGeom prst="cloudCallout">
            <a:avLst>
              <a:gd name="adj1" fmla="val -53273"/>
              <a:gd name="adj2" fmla="val 2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уб.33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828800" y="5867280"/>
            <a:ext cx="2158920" cy="576360"/>
          </a:xfrm>
          <a:prstGeom prst="cloudCallout">
            <a:avLst>
              <a:gd name="adj1" fmla="val 35365"/>
              <a:gd name="adj2" fmla="val -236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5 руб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рестьянская реформа стала результатом компромисса между помещиками, крестьянами и правительством. Причем интересы помещиков были максимально учт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Условия освобождения крестьян изначально заключало в себе будущие противоречие и источник постоянных конфликтов между ними и помещ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Реформа предотвратила массовые выступления крестьян, хотя локальные имели мес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Реформа не решила крестьянский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Были созданы условия для утверждения капиталистического уклада в экономике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чение и последствие крестьянской реформы 186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естьяне освобождены от крепостной 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изошло социальное расслоение (кулаки, батра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зданы условия для развития капит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хранились феодальные пережитки (помещичье землевладение, община, сослов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аботки из-за малоземелья (работа на земле помещика за взятую ими в аренду зем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довольство крестьян условиями выкупных платежей (всплеск крестьянских восст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304920" y="533520"/>
            <a:ext cx="8229600" cy="5943600"/>
          </a:xfrm>
          <a:prstGeom prst="bevel">
            <a:avLst>
              <a:gd name="adj" fmla="val 9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стьяне, в пользовани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ло больше зем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 предусматрив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ой, должны были вер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лишки помещ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«отрезки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01440" y="1206360"/>
            <a:ext cx="7264800" cy="439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тработк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крестьяне получали во временное пользование часть земли, вместо платы за землю они работали у помещик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75120" y="1275480"/>
            <a:ext cx="6897960" cy="433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Прирезк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- часть земли, которую отдавали в пользу крестьян по реформе 1861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9880" y="1068480"/>
            <a:ext cx="7311240" cy="452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щи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крестьяне получали во временное пользование часть земли, вместо платы за землю они отдавали помещику половину урожа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30240" y="1235160"/>
            <a:ext cx="7435080" cy="464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ыкупные платеж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выкуп крестьянами земли у помещиков. Первоначально 80% выкупа выплатило помещикам государства. Крестьяне должны были рассчитаться с государством за 49 л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28800"/>
            <a:ext cx="8382240" cy="4648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готовка крестьян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Основные полож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естьянской ре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чение отме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епостного пра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репостное право отменено, но сохранились феодальные пережит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А.Н. Радищ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Н.А. Некра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Д.И. Фонвиз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из писателей обличал крепостничество в своём произведении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Пётр Пер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Павел Пер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Николай Пер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09692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алу разработки реформы освобождения крестьян положи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Указ « о вольных хлебопашц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Закон « об обязанных крестьян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Закон о трёхдневной барщин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09692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акой закон был разработан Александром Первым по освобождению крестья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1850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1855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1861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В каком году Александр Первый вступил на прест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А) граф Па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) поэт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) дядя Констант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Воспитателем Александра Первого бы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fd3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) поражение в Крымской вой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Б) желание дворян освободиться т тяжёлого б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) рекрутские наборы в арм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6984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Что не являлось причиной отмены крепостного пра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25:2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