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3D7-8C7B-43A4-A05B-EF967DD4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7FE-D124-45B8-BF2A-4D14DC2B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C34-9081-4CC3-9FB7-BC278770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E70-EC7F-4336-A3E7-6E81582A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452A-5740-42E6-91F6-991A61E0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98C4-536D-44E2-8765-EA95E0AD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E82D-917C-461C-B74F-C3494B79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E846-31F4-40F2-BBD0-AC014B17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7EEB-7410-432A-A56E-3039F0BD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1461-F5FD-4764-968B-6373D3FB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C54C-3DF1-4344-B0F4-E1362AF7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C23-CE88-43E3-87B5-C9CA336F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4D45-6856-48F0-A42C-F6075060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AAEC-9CBB-4A1A-A145-8F116116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0C23-C92A-45EF-B6EF-CEB3ECC1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DDE0-475F-44B1-B459-8584D3C0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2D87-228C-41F3-B56D-4B2B3DC0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50F-D78D-41CE-8802-20323A42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E37-F98E-4DD2-9EE1-669DAC6D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83D-096A-4159-96A3-5191D3D6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174-35CC-4294-BA53-23EB560A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EFF-CD99-4B2B-939E-795EFA2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657-DC76-43CD-94CD-276AE0EA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969-819C-4782-BFE2-AB0A29C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57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8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9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10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11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12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4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5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6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7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8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9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20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21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22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23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4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7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8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9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30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31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32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33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34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5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6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7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8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9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40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41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42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43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44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5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6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7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8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9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50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51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52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53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54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5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2E2C-96E1-4D39-B85F-B3A9FEA92E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5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57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9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30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3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34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5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7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8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9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0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1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2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3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4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5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6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7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8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9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50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51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84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25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6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27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28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8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9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60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1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62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3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4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65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66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7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8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9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0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71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72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73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74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76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7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9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80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81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B7EE-615E-44C7-BAEA-03E66FB947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2285640"/>
            <a:ext cx="8064360" cy="26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лигиозные войны и укрепление абсолютной монархии во Франци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189000"/>
            <a:ext cx="6626160" cy="10080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84360" y="5229360"/>
            <a:ext cx="6480360" cy="16286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ая кров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rcRect l="0" t="7174" r="0" b="0"/>
          <a:stretch/>
        </p:blipFill>
        <p:spPr>
          <a:xfrm>
            <a:off x="900000" y="1844640"/>
            <a:ext cx="3227400" cy="41767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355640" y="184428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оды правления с  1560- 1574 гг.  Проблемы, стоявшие перед Францией, его не интересовал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5877000"/>
            <a:ext cx="3888000" cy="79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X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ороль Фран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918560" cy="86364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уть беды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1125360"/>
            <a:ext cx="4392720" cy="554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Католик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вали сво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рат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траива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очисле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це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бивали гугено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считая это грех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щадили ни женщин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 де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1125360"/>
            <a:ext cx="4427640" cy="554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Гугено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и менее жесто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оря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толические церкв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шили стату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я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ик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не щадили священ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мон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814640" cy="48355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5076720" y="1557360"/>
            <a:ext cx="374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572 г. – свадьба  Генриха Наваррского и сестры Карла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X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Маргар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Стрелка вниз 11"/>
          <p:cNvSpPr/>
          <p:nvPr/>
        </p:nvSpPr>
        <p:spPr>
          <a:xfrm>
            <a:off x="6659640" y="4149720"/>
            <a:ext cx="865080" cy="1511280"/>
          </a:xfrm>
          <a:prstGeom prst="downArrow">
            <a:avLst>
              <a:gd name="adj1" fmla="val 50000"/>
              <a:gd name="adj2" fmla="val 87349"/>
            </a:avLst>
          </a:prstGeom>
          <a:solidFill>
            <a:srgbClr val="ffff00"/>
          </a:solidFill>
          <a:ln w="255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148360" y="5734080"/>
            <a:ext cx="3816360" cy="93672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9360">
            <a:solidFill>
              <a:srgbClr val="00ee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4 августа 1572г. – Варфоломеевская ноч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89000"/>
            <a:ext cx="77724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 Кровавая свадьба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851280" y="1413000"/>
            <a:ext cx="5113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ыл руководителем гугенотов вместе с королём Генрихом Наваррским. В результате покушения был ранен выстрелом из-за угла, но выжил. Потом был убит, труп проволокли по улицам, а затем повеси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465360" cy="4895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189000"/>
            <a:ext cx="77724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 Кровавая свадьба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281640"/>
            <a:ext cx="3960720" cy="576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мирал Колинь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3960720" cy="5661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268360" y="6138720"/>
            <a:ext cx="4034160" cy="719280"/>
          </a:xfrm>
          <a:prstGeom prst="rect">
            <a:avLst/>
          </a:prstGeom>
          <a:solidFill>
            <a:srgbClr val="99cc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рих Наварр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008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 Король, спасший Францию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762120" y="1628640"/>
            <a:ext cx="4457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ариж стоит месс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Стрелка вниз 8"/>
          <p:cNvSpPr/>
          <p:nvPr/>
        </p:nvSpPr>
        <p:spPr>
          <a:xfrm>
            <a:off x="2195640" y="3573360"/>
            <a:ext cx="64764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9"/>
          <p:cNvSpPr/>
          <p:nvPr/>
        </p:nvSpPr>
        <p:spPr>
          <a:xfrm>
            <a:off x="539640" y="4365720"/>
            <a:ext cx="4032360" cy="71892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9360">
            <a:solidFill>
              <a:srgbClr val="00ee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ри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оль Фран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679920" cy="48247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5"/>
          <p:cNvSpPr/>
          <p:nvPr/>
        </p:nvSpPr>
        <p:spPr>
          <a:xfrm>
            <a:off x="539640" y="5300640"/>
            <a:ext cx="4032360" cy="144144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9360">
            <a:solidFill>
              <a:srgbClr val="00ee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98 г. – Нантский эдикт: разрешение исповедовать протестан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115920"/>
            <a:ext cx="8964720" cy="1008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 Добрый король 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32360" y="5778360"/>
            <a:ext cx="403236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ри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брый, славный кор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) при нём Франция закончила воевать с Испан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) снизил прямой налог с крестья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) запретил арестовывать крестьян за долги и забирать у него ск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) покровительствовал развитию торговли и мануфак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) при нём было открыто много королевских мануфакту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) участвовал сам в создании купеческих комп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) улучшилась жизнь нар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) удалось преодолеть вызванную религиозной войной разрух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981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 Добрый король 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79280" y="1699920"/>
            <a:ext cx="518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Моей первой целью было величие короля, моей второй целью было могущество государств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932360" y="1596960"/>
            <a:ext cx="3881520" cy="50007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3280" y="189000"/>
            <a:ext cx="8675640" cy="981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рдинал Ришель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опросы на стр. 1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ведём итог урок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араграф 14, вопросы на стр. 129, за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11253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годня  на урок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268280"/>
            <a:ext cx="8713800" cy="54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характеризуем особенности религиоз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зни во Франции во второй полови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XVI ве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м, как произошло усил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бсолютизма во Фран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будем учиться работать 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им источник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13840" y="259920"/>
            <a:ext cx="8713800" cy="112572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верьте себя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1557360"/>
            <a:ext cx="8713800" cy="511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 Один король, но две ве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Первая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уть бе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« Кровавая свадьб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« Король, спасший Францию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 « Добрый корол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. Кардинал Ришель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трелка вниз 7"/>
          <p:cNvSpPr/>
          <p:nvPr/>
        </p:nvSpPr>
        <p:spPr>
          <a:xfrm>
            <a:off x="4572000" y="2852640"/>
            <a:ext cx="64764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Скругленный прямоугольник 8"/>
          <p:cNvSpPr/>
          <p:nvPr/>
        </p:nvSpPr>
        <p:spPr>
          <a:xfrm>
            <a:off x="3492360" y="3429000"/>
            <a:ext cx="3672000" cy="576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кол Фран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9"/>
          <p:cNvSpPr/>
          <p:nvPr/>
        </p:nvSpPr>
        <p:spPr>
          <a:xfrm>
            <a:off x="5651640" y="4365720"/>
            <a:ext cx="3097080" cy="16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уген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Южная Фра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ржуа, крестья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Скругленный прямоугольник 10"/>
          <p:cNvSpPr/>
          <p:nvPr/>
        </p:nvSpPr>
        <p:spPr>
          <a:xfrm>
            <a:off x="1692360" y="4365720"/>
            <a:ext cx="3311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тол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ороли династии Валуа, Севе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Прямая со стрелкой 12"/>
          <p:cNvCxnSpPr>
            <a:stCxn id="214" idx="2"/>
            <a:endCxn id="216" idx="0"/>
          </p:cNvCxnSpPr>
          <p:nvPr/>
        </p:nvCxnSpPr>
        <p:spPr>
          <a:xfrm flipH="1">
            <a:off x="3347280" y="4017960"/>
            <a:ext cx="1981800" cy="335520"/>
          </a:xfrm>
          <a:prstGeom prst="straightConnector1">
            <a:avLst/>
          </a:prstGeom>
          <a:ln w="19080">
            <a:solidFill>
              <a:srgbClr val="262626"/>
            </a:solidFill>
            <a:miter/>
            <a:tailEnd len="med" type="arrow" w="med"/>
          </a:ln>
        </p:spPr>
      </p:cxnSp>
      <p:cxnSp>
        <p:nvCxnSpPr>
          <p:cNvPr id="218" name="Прямая со стрелкой 13"/>
          <p:cNvCxnSpPr>
            <a:stCxn id="214" idx="2"/>
            <a:endCxn id="215" idx="0"/>
          </p:cNvCxnSpPr>
          <p:nvPr/>
        </p:nvCxnSpPr>
        <p:spPr>
          <a:xfrm>
            <a:off x="5329080" y="4017960"/>
            <a:ext cx="1872720" cy="335520"/>
          </a:xfrm>
          <a:prstGeom prst="straightConnector1">
            <a:avLst/>
          </a:prstGeom>
          <a:ln w="190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9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ранция в XVI век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1557360"/>
            <a:ext cx="3456000" cy="1368360"/>
          </a:xfrm>
          <a:prstGeom prst="ellipse">
            <a:avLst/>
          </a:prstGeom>
          <a:solidFill>
            <a:srgbClr val="00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львин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3300"/>
                </a:solidFill>
                <a:uFillTx/>
                <a:latin typeface="Times New Roman"/>
              </a:rPr>
              <a:t>Гугеноты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- протестанты во Франц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ишем определени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56000" y="1844280"/>
            <a:ext cx="460368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) первоначально собирались тайно на собр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) затем перешли к активной борьбе против папы и епископ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) получали от Кальвина литературу, создавали свои типографии и печатали листовки с изложением Лютера и Кальв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616200" cy="4752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800" y="189000"/>
            <a:ext cx="77724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ь гугенотов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4681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лигиозные войны начались во Франции в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156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году, когда лотарингский герцог Генрих де Гиз, проезжая мимо местечка Васи, напал на отправляющихся  религиозную службу гугено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011400" cy="489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85800" y="189000"/>
            <a:ext cx="77724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чало религиозной войн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5943600"/>
            <a:ext cx="4321080" cy="725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цог Генрих де Г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427280" y="155700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ластная и хитрая интриганка. Управляла страной, так как её сын, Карл IX, был малолетним. Её интриги и хитрость была направлена на укрепление королевской власти и сохранение единства стра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2735280" cy="3733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5800" y="189000"/>
            <a:ext cx="77724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ая кров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661000"/>
            <a:ext cx="4032000" cy="7207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катерина Меди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6:40:17Z</dcterms:created>
  <dc:creator>Гущина Мрина Евгеньевна</dc:creator>
  <dc:description/>
  <cp:keywords/>
  <dc:language>en-US</dc:language>
  <cp:lastModifiedBy>user</cp:lastModifiedBy>
  <dcterms:modified xsi:type="dcterms:W3CDTF">2002-01-01T00:13:05Z</dcterms:modified>
  <cp:revision>9</cp:revision>
  <dc:subject/>
  <dc:title>Религиозные войны и укрепление абсолютной монархии во Фран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71049</vt:lpwstr>
  </property>
</Properties>
</file>