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A31-EDE2-48E8-B437-4EECB04B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531-412E-4DF4-B342-2E062DE2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EDF-2965-44F5-99A6-9AD622E8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B83-56BF-440B-B8E1-A1FA026A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5E7-5760-45C2-9EE6-D95A7EE3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18B-7165-494D-BE70-6928D8F4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A98-3929-4C08-9B1D-1369EA4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E82-18BA-46BC-A24F-57FD7CD2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B78-B038-4F42-8F0F-81E4BE80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D92-BF46-4780-A657-B0CC247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F85-6733-4838-BAED-B1711D15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916-AAEA-4C2F-BB8B-DE2D0A11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AA9-2397-45B7-8390-C5A60EBE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upload.wikimedia.org/wikipedia/commons/c/c1/Sergey_Zaryanko_21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file://upload.wikimedia.org/wikipedia/commons/1/16/Milutin_Dmitry_Alexeevich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file://upload.wikimedia.org/wikipedia/commons/9/99/Yuri_Fyodorovich_Samarin_Kramskoi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29718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« Накануне отмены крепостного прав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52280"/>
            <a:ext cx="365760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952880"/>
            <a:ext cx="6477120" cy="16765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отмены крепостного пра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92480" y="1483200"/>
            <a:ext cx="8235360" cy="4882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49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изкая производительность крепостного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тсутствие личной свободы препятствовало развитию капит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епостное право - угроза обществен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зможность потерять статус великой держ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езнравственность крепостн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25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4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аким образом, крепостное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пятствовало дальнейшему экономическому развитию стра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озило отодвинуть Россию в разряд второстепенных держ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являлось мощным дестабилизирующим фактором внутри российского общ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оронники Александра 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234324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4952880"/>
            <a:ext cx="3810240" cy="5335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тантин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4876920"/>
            <a:ext cx="3809880" cy="990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ликая кня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лен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Файл:Sergey Zaryanko 2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76520"/>
            <a:ext cx="2487600" cy="3124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4876920"/>
            <a:ext cx="3124440" cy="8380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тов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Файл:Milutin Dmitry Alexeevic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1790640"/>
            <a:ext cx="221004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5029200"/>
            <a:ext cx="342900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митрий Алекс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лю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Файл:Yuri Fyodorovich Samarin Kramskoi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2971800"/>
            <a:ext cx="2224080" cy="2852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57680" y="5943600"/>
            <a:ext cx="342900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рий Фёд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р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оронники Александра 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05560" cy="175248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чь Александра II, произнесенная им 30 марта 1856 г. перед московскими губернскими и уездными предводителями дворян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2280" y="1981080"/>
            <a:ext cx="899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хи носятся, что я хочу дать свободу крестьянам; это не справедливо, и вы можете сказать это всем направо и налево; но чувства, враждебные между крестьянами и их помещиками, к несчастью, существует, и от этого было уже несколько случаев неповиновения к помещикам. Я убежден, что рано или поздно мы должны к этому прийти. Я думаю, что вы одного мнения со мною, следовательно, гораздо лучше, чтобы это произошло свыше, нежели снизу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07720" y="5770440"/>
            <a:ext cx="3774600" cy="103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землей, которой владеют в настоящее время, за вык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кавелин"/>
          <p:cNvPicPr/>
          <p:nvPr/>
        </p:nvPicPr>
        <p:blipFill>
          <a:blip r:embed="rId2"/>
          <a:stretch/>
        </p:blipFill>
        <p:spPr>
          <a:xfrm>
            <a:off x="685800" y="1143000"/>
            <a:ext cx="1722600" cy="2540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2" name="WordArt 5"/>
          <p:cNvSpPr txBox="1"/>
          <p:nvPr/>
        </p:nvSpPr>
        <p:spPr>
          <a:xfrm>
            <a:off x="609480" y="3733920"/>
            <a:ext cx="205740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К.Д. Кавели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2819520" y="1143000"/>
            <a:ext cx="2046240" cy="2544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WordArt 9"/>
          <p:cNvSpPr txBox="1"/>
          <p:nvPr/>
        </p:nvSpPr>
        <p:spPr>
          <a:xfrm>
            <a:off x="3048120" y="3733920"/>
            <a:ext cx="205740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А.И. Герце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5181480" y="1143000"/>
            <a:ext cx="3563640" cy="2548080"/>
            <a:chOff x="5181480" y="1143000"/>
            <a:chExt cx="3563640" cy="2548080"/>
          </a:xfrm>
        </p:grpSpPr>
        <p:pic>
          <p:nvPicPr>
            <p:cNvPr id="96" name="Picture 13" descr="Чернышевский5"/>
            <p:cNvPicPr/>
            <p:nvPr/>
          </p:nvPicPr>
          <p:blipFill>
            <a:blip r:embed="rId4"/>
            <a:stretch/>
          </p:blipFill>
          <p:spPr>
            <a:xfrm>
              <a:off x="5181480" y="1143000"/>
              <a:ext cx="1957320" cy="2548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  <p:pic>
          <p:nvPicPr>
            <p:cNvPr id="97" name="Picture 14" descr="Добролюбов"/>
            <p:cNvPicPr/>
            <p:nvPr/>
          </p:nvPicPr>
          <p:blipFill>
            <a:blip r:embed="rId5"/>
            <a:stretch/>
          </p:blipFill>
          <p:spPr>
            <a:xfrm>
              <a:off x="6836040" y="1143000"/>
              <a:ext cx="1909080" cy="2548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</p:grpSp>
      <p:sp>
        <p:nvSpPr>
          <p:cNvPr id="98" name="WordArt 15"/>
          <p:cNvSpPr txBox="1"/>
          <p:nvPr/>
        </p:nvSpPr>
        <p:spPr>
          <a:xfrm>
            <a:off x="5410080" y="3809880"/>
            <a:ext cx="31687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.Г. Чернышевский 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.А. Добролюб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2514600" y="4572000"/>
            <a:ext cx="38098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землей, выкупленной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4724280" y="5638680"/>
            <a:ext cx="403884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можно только через «народное де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9"/>
          <p:cNvSpPr/>
          <p:nvPr/>
        </p:nvSpPr>
        <p:spPr>
          <a:xfrm>
            <a:off x="6934320" y="4648320"/>
            <a:ext cx="838080" cy="990360"/>
          </a:xfrm>
          <a:prstGeom prst="downArrow">
            <a:avLst>
              <a:gd name="adj1" fmla="val 84852"/>
              <a:gd name="adj2" fmla="val 112015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1066680" y="4648320"/>
            <a:ext cx="838440" cy="990360"/>
          </a:xfrm>
          <a:prstGeom prst="downArrow">
            <a:avLst>
              <a:gd name="adj1" fmla="val 84852"/>
              <a:gd name="adj2" fmla="val 1119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3733920" y="4114800"/>
            <a:ext cx="838080" cy="380880"/>
          </a:xfrm>
          <a:prstGeom prst="downArrow">
            <a:avLst>
              <a:gd name="adj1" fmla="val 84852"/>
              <a:gd name="adj2" fmla="val 9479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534520" cy="79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ссийская « оттепель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опросы на стр. 1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а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77840" y="3100320"/>
            <a:ext cx="699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араграф 19, записи, вопрос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дания в рабочей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52280"/>
            <a:ext cx="8686800" cy="12193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Познакомимся с новы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ператором Александром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ясним предпосылки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отм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епостного п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Выясним, как к этому вопро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силось общ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дпосылки отме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епостного п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Император Александр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Причины отмены крепост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Российская «оттепел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чему, несмотря на то, что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мены крепостного п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оял достаточно ос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сь XIX век решит его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ександр I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"/>
          <p:cNvGrpSpPr/>
          <p:nvPr/>
        </p:nvGrpSpPr>
        <p:grpSpPr>
          <a:xfrm>
            <a:off x="609480" y="1736640"/>
            <a:ext cx="3657240" cy="4511520"/>
            <a:chOff x="609480" y="1736640"/>
            <a:chExt cx="3657240" cy="4511520"/>
          </a:xfrm>
        </p:grpSpPr>
        <p:pic>
          <p:nvPicPr>
            <p:cNvPr id="54" name="Picture 5" descr="Николай 1-4"/>
            <p:cNvPicPr/>
            <p:nvPr/>
          </p:nvPicPr>
          <p:blipFill>
            <a:blip r:embed="rId2"/>
            <a:stretch/>
          </p:blipFill>
          <p:spPr>
            <a:xfrm>
              <a:off x="704520" y="1736640"/>
              <a:ext cx="3468960" cy="45115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5" name="AutoShape 6"/>
            <p:cNvSpPr/>
            <p:nvPr/>
          </p:nvSpPr>
          <p:spPr>
            <a:xfrm>
              <a:off x="609480" y="5577120"/>
              <a:ext cx="3657240" cy="67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1173960" y="5672880"/>
              <a:ext cx="2470320" cy="34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иколай 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4800600" y="1736640"/>
            <a:ext cx="3885840" cy="4511160"/>
            <a:chOff x="4800600" y="1736640"/>
            <a:chExt cx="3885840" cy="4511160"/>
          </a:xfrm>
        </p:grpSpPr>
        <p:pic>
          <p:nvPicPr>
            <p:cNvPr id="58" name="Picture 9" descr=""/>
            <p:cNvPicPr/>
            <p:nvPr/>
          </p:nvPicPr>
          <p:blipFill>
            <a:blip r:embed="rId3"/>
            <a:stretch/>
          </p:blipFill>
          <p:spPr>
            <a:xfrm>
              <a:off x="5018400" y="1736640"/>
              <a:ext cx="3335400" cy="4416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9" name="AutoShape 10"/>
            <p:cNvSpPr/>
            <p:nvPr/>
          </p:nvSpPr>
          <p:spPr>
            <a:xfrm>
              <a:off x="4800600" y="5577120"/>
              <a:ext cx="3885840" cy="67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WordArt 11"/>
            <p:cNvSpPr txBox="1"/>
            <p:nvPr/>
          </p:nvSpPr>
          <p:spPr>
            <a:xfrm>
              <a:off x="4890240" y="5672880"/>
              <a:ext cx="3702240" cy="44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лександра Федоровн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дители Александра 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был непохож на отца; рос мягким, чувствительным, имел красивую внешность, весёлый нрав и был очень общительным. Александр получил прекрасное образование: в наставники ему отец избрал знаменитого поэта — Жуковского, — и тот отнесся к своему назначению с величайшей ответств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Александра II и Марии Николаевичей, 1821г."/>
          <p:cNvPicPr/>
          <p:nvPr/>
        </p:nvPicPr>
        <p:blipFill>
          <a:blip r:embed="rId2"/>
          <a:stretch/>
        </p:blipFill>
        <p:spPr>
          <a:xfrm>
            <a:off x="990720" y="1523880"/>
            <a:ext cx="308268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943600"/>
            <a:ext cx="396252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Садовников"/>
          <p:cNvPicPr/>
          <p:nvPr/>
        </p:nvPicPr>
        <p:blipFill>
          <a:blip r:embed="rId2"/>
          <a:stretch/>
        </p:blipFill>
        <p:spPr>
          <a:xfrm>
            <a:off x="0" y="1447920"/>
            <a:ext cx="8915400" cy="52959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2193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оржества в Москве по случаю корон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репостное прав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-      форма зависимости крестьян, прикрепление их к земле и подчинение административной и судейской власти феод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) начало положил Павел Первый своим указом в 1797 году о трёхдневной барщ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) в 1803 году указ Александра « о вольных хлебопашц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) в 1842 г. – указ Николая Первого об « обязанных крестьян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пытки ранее решить крестьянский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8T11:01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