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B5E-FC97-43DA-B110-B5E5D2B8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39D-908E-4422-8438-5FDF66D1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B21-B844-4305-B906-DBC32CD0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4AD9-8B1E-49C2-AF40-CB20EB22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177-BF1E-4062-89AB-34FC4C11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34E-EE1E-48CC-8FB6-227C92FB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983-66BE-4966-B8A6-C98AC251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9CD-5571-4D7C-B963-EEF9940B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8E8-562A-468B-B2D1-006C270A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313-B2B3-42C7-A5CA-6F849C1B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0E3-E152-4AA6-A7B7-2CA5AFEA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E6F-93A6-4104-8484-75ACA199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19C0-260D-4555-BD70-B57A34CC31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0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2590560"/>
            <a:ext cx="6357960" cy="1857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« Завоевание Римом Италии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Прямоугольник 6" descr=""/>
          <p:cNvPicPr/>
          <p:nvPr/>
        </p:nvPicPr>
        <p:blipFill>
          <a:blip r:embed="rId3"/>
          <a:stretch/>
        </p:blipFill>
        <p:spPr>
          <a:xfrm>
            <a:off x="1133640" y="414360"/>
            <a:ext cx="5694120" cy="1884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6520" y="5181480"/>
            <a:ext cx="6781680" cy="1524240"/>
          </a:xfrm>
          <a:prstGeom prst="rect">
            <a:avLst/>
          </a:prstGeom>
          <a:solidFill>
            <a:srgbClr val="99cc00"/>
          </a:solidFill>
          <a:ln w="95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Будинской ООШ Тверской обл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нтоненковой А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47960" y="198072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имляне долго защищали эту крепость. Они были измученные и уставшие. Галлы отважились на штурм. Ночью они полезли по скалам вверх. Стражники спали, и лишь гуси услышали шорох и начали гоготать, разбудив страж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Rectangle 3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3493800" cy="4655880"/>
          </a:xfrm>
          <a:prstGeom prst="rect">
            <a:avLst/>
          </a:prstGeom>
          <a:ln w="76320">
            <a:solidFill>
              <a:srgbClr val="e5ffff"/>
            </a:solidFill>
            <a:miter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Нашествие галлов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4952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аллы были отбиты и решили уйти, взяв с Рима золото. При         взвешивании они стали плутовать, римляне возмутились но вождь галлов, бросил свой меч на чашу с гирями со словами «Горе побежденным!». Римлянам пришлось отдать больше назначенн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ашествие галлов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Рисунок 19" descr=""/>
          <p:cNvPicPr/>
          <p:nvPr/>
        </p:nvPicPr>
        <p:blipFill>
          <a:blip r:embed="rId2"/>
          <a:stretch/>
        </p:blipFill>
        <p:spPr>
          <a:xfrm>
            <a:off x="5181480" y="3429000"/>
            <a:ext cx="3318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Военные победы римлян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Рисунок 4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331632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095880"/>
            <a:ext cx="403848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Царь Пир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1371600"/>
            <a:ext cx="4114800" cy="22096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 280 г до н.э. Пир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садился в Италии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держал побе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029200" y="4484520"/>
            <a:ext cx="3976560" cy="2373480"/>
          </a:xfrm>
          <a:prstGeom prst="rect">
            <a:avLst/>
          </a:prstGeom>
          <a:ln w="76320">
            <a:solidFill>
              <a:srgbClr val="e5ffff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6705720" y="3657600"/>
            <a:ext cx="761760" cy="762120"/>
          </a:xfrm>
          <a:prstGeom prst="downArrow">
            <a:avLst>
              <a:gd name="adj1" fmla="val 50000"/>
              <a:gd name="adj2" fmla="val 2501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ая соединительная линия 6"/>
          <p:cNvSpPr/>
          <p:nvPr/>
        </p:nvSpPr>
        <p:spPr>
          <a:xfrm flipH="1">
            <a:off x="5285880" y="1643040"/>
            <a:ext cx="18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228600" y="1460520"/>
            <a:ext cx="84582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енатор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– член сен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«Пиррова победа»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–  победа  сопоставимая по потерям с поражени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80880"/>
            <a:ext cx="8381880" cy="914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Военные победы римля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914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Домашнее задание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840" y="19051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араграф 45, записи, вопросы, творческое задание: написать рассказ от лица римского или галльского воина                       ( по желанию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" descr=""/>
          <p:cNvPicPr/>
          <p:nvPr/>
        </p:nvPicPr>
        <p:blipFill>
          <a:blip r:embed="rId2"/>
          <a:stretch/>
        </p:blipFill>
        <p:spPr>
          <a:xfrm>
            <a:off x="407880" y="414360"/>
            <a:ext cx="8248680" cy="18842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380880" y="1905120"/>
            <a:ext cx="8458200" cy="457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выясним, как проходило усиление могущества Ри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знаем, почему Рим смог покорить и подчинить Итали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Будем учиться работать с учебник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1" descr=""/>
          <p:cNvPicPr/>
          <p:nvPr/>
        </p:nvPicPr>
        <p:blipFill>
          <a:blip r:embed="rId2"/>
          <a:stretch/>
        </p:blipFill>
        <p:spPr>
          <a:xfrm>
            <a:off x="523800" y="414360"/>
            <a:ext cx="8023320" cy="18842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343080" y="2057400"/>
            <a:ext cx="8458200" cy="457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озникновение республи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 algn="ctr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Нашествие галл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 algn="ctr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оенные победы римля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 algn="ctr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7"/>
          <p:cNvSpPr/>
          <p:nvPr/>
        </p:nvSpPr>
        <p:spPr>
          <a:xfrm>
            <a:off x="450720" y="2066760"/>
            <a:ext cx="8388360" cy="3953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ЧТО ПОЗВОЛИЛО РИМЛЯНАМ  УСТАНОВИТЬ СВОЕ ГОСПОДСТВО НАД  ИТАЛИЕЙ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Прямоугольник 2" descr=""/>
          <p:cNvPicPr/>
          <p:nvPr/>
        </p:nvPicPr>
        <p:blipFill>
          <a:blip r:embed="rId3"/>
          <a:stretch/>
        </p:blipFill>
        <p:spPr>
          <a:xfrm>
            <a:off x="523800" y="414360"/>
            <a:ext cx="802332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2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акие изменения произошли на карте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ем вызваны такие изменения?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3876840" cy="276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2" name="Рисунок 4" descr=""/>
          <p:cNvPicPr/>
          <p:nvPr/>
        </p:nvPicPr>
        <p:blipFill>
          <a:blip r:embed="rId3"/>
          <a:stretch/>
        </p:blipFill>
        <p:spPr>
          <a:xfrm>
            <a:off x="4714920" y="3357720"/>
            <a:ext cx="3948120" cy="2761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3" name="Прямоугольник 7" descr=""/>
          <p:cNvPicPr/>
          <p:nvPr/>
        </p:nvPicPr>
        <p:blipFill>
          <a:blip r:embed="rId4"/>
          <a:stretch/>
        </p:blipFill>
        <p:spPr>
          <a:xfrm>
            <a:off x="304920" y="512640"/>
            <a:ext cx="841212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2"/>
          <a:stretch/>
        </p:blipFill>
        <p:spPr>
          <a:xfrm>
            <a:off x="304920" y="512640"/>
            <a:ext cx="8412120" cy="1602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27"/>
          <p:cNvSpPr/>
          <p:nvPr/>
        </p:nvSpPr>
        <p:spPr>
          <a:xfrm>
            <a:off x="450720" y="2066760"/>
            <a:ext cx="8388360" cy="456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Республик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– форма правления, при котором власть сосредоточена в руках избранных прав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509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году до н.э. в Риме была установлена республика. Римляне стали выбирать из числа патрициев 2 правителей на 1  г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Консулы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– правители в Древнем Ри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304920" y="1523880"/>
            <a:ext cx="8610480" cy="510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лебеи права участвовать в управлении н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лучили, хотя военную службу несли вместе с патрици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49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г. до н.э. плебеи ушли из Рима, когда город остро нуждался в воинской службе. Патриции        пошли на уступки. Плебеям разрешили создавать свое Народное собрание. Из числа плебеев стали избирать 2(10) НАРОДНЫХ ТРИБУ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Прямоугольник 2" descr=""/>
          <p:cNvPicPr/>
          <p:nvPr/>
        </p:nvPicPr>
        <p:blipFill>
          <a:blip r:embed="rId3"/>
          <a:stretch/>
        </p:blipFill>
        <p:spPr>
          <a:xfrm>
            <a:off x="304920" y="285840"/>
            <a:ext cx="84121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1" descr=""/>
          <p:cNvPicPr/>
          <p:nvPr/>
        </p:nvPicPr>
        <p:blipFill>
          <a:blip r:embed="rId2"/>
          <a:stretch/>
        </p:blipFill>
        <p:spPr>
          <a:xfrm>
            <a:off x="365040" y="304920"/>
            <a:ext cx="8412120" cy="16030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380880" y="1676520"/>
            <a:ext cx="8534520" cy="4952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Любой плебей мог обратиться к народному трибуну с просьбой о защите. Двери его дома всегда были открыты, ему запрещалось покидать город более чем на сутки. Народные трибуны присутствовали на заседаниях сената, но скромно стояли у входа. Если сенат принимал постановление, направленное против плебеев, то трибуны произносил слово «Запрещаю!» ( по лат. – вето). Его личность была неприкосновен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657600" cy="2290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228600"/>
            <a:ext cx="830592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Нашествие галл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809880"/>
            <a:ext cx="9144000" cy="3048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8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 390-м году до н.э. над Римом нависла страшн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гроза. Через Альпы в Италию хлыну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лчища галльских племён. Город был захваче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имляне разбиты. Устояла лишь маленькая крепость 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рутом Капитолийском холме. Началась длительн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его оса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2057400"/>
            <a:ext cx="3809880" cy="6858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Галльские пле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1:17:0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