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339-2531-4E83-89F1-8B9DC784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FCC-3805-4258-8AA5-F090406A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C53-6B81-45CC-A0FC-7B9A2B53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99C-04FF-442F-8B5A-C6CBF0F2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D66-949C-4B5C-862D-E9732B50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6C8-8A09-4189-9AC2-65FFC9E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211-772E-48CB-8D0C-F83CD1E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1C5-5312-468C-8B97-F23DFF0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D0B-F77F-494A-8859-D1FCA44E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647-A4F0-4EF1-8161-B96A1DF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E83-2CCE-4BF3-B4F0-D927777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FA5-8EF5-498F-AFB5-3BCB619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EFF-D7AD-4D86-9926-8CD7D928A6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2590560"/>
            <a:ext cx="6357960" cy="1857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 Завоевание Римом Итали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1133640" y="414360"/>
            <a:ext cx="5694120" cy="1884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5181480"/>
            <a:ext cx="6781680" cy="1524240"/>
          </a:xfrm>
          <a:prstGeom prst="rect">
            <a:avLst/>
          </a:prstGeom>
          <a:solidFill>
            <a:srgbClr val="99cc00"/>
          </a:solidFill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удинской ООШ Твер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7960" y="19807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имляне долго защищали эту крепость. Они были измученные и уставшие. Галлы отважились на штурм. Ночью они полезли по скалам вверх. Стражники спали, и лишь гуси услышали шорох и начали гоготать, разбудив страж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493800" cy="46558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аллы были отбиты и решили уйти, взяв с Рима золото. При         взвешивании они стали плутовать, римляне возмутились но вождь галлов, бросил свой меч на чашу с гирями со словами «Горе побежденным!». Римлянам пришлось отдать больше назнач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Рисунок 19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331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31632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5880"/>
            <a:ext cx="403848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арь Пир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371600"/>
            <a:ext cx="4114800" cy="22096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280 г до н.э. Пир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садился в Италии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держал поб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29200" y="4484520"/>
            <a:ext cx="3976560" cy="23734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3657600"/>
            <a:ext cx="761760" cy="76212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6"/>
          <p:cNvSpPr/>
          <p:nvPr/>
        </p:nvSpPr>
        <p:spPr>
          <a:xfrm flipH="1">
            <a:off x="5285880" y="1643040"/>
            <a:ext cx="18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28600" y="1460520"/>
            <a:ext cx="8458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натор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– член се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Пиррова победа»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 победа  сопоставимая по потерям с пораж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38188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араграф 45, записи, вопросы, творческое задание: написать рассказ от лица римского или галльского воина                       ( по желанию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407880" y="414360"/>
            <a:ext cx="8248680" cy="18842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80880" y="1905120"/>
            <a:ext cx="8458200" cy="457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ясним, как проходило усиление могущества Р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знаем, почему Рим смог покорить и подчинить Ита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удем учиться работать с учебни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14360"/>
            <a:ext cx="8023320" cy="1884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43080" y="2057400"/>
            <a:ext cx="8458200" cy="457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озникновение респуб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7"/>
          <p:cNvSpPr/>
          <p:nvPr/>
        </p:nvSpPr>
        <p:spPr>
          <a:xfrm>
            <a:off x="450720" y="2066760"/>
            <a:ext cx="8388360" cy="395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ТО ПОЗВОЛИЛО РИМЛЯНАМ  УСТАНОВИТЬ СВОЕ ГОСПОДСТВО НАД  ИТАЛИЕ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3"/>
          <a:stretch/>
        </p:blipFill>
        <p:spPr>
          <a:xfrm>
            <a:off x="523800" y="414360"/>
            <a:ext cx="80233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2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ие изменения произошли на карте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м вызваны такие изменения?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3876840" cy="276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4714920" y="3357720"/>
            <a:ext cx="3948120" cy="2761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Прямоугольник 7" descr=""/>
          <p:cNvPicPr/>
          <p:nvPr/>
        </p:nvPicPr>
        <p:blipFill>
          <a:blip r:embed="rId4"/>
          <a:stretch/>
        </p:blipFill>
        <p:spPr>
          <a:xfrm>
            <a:off x="304920" y="512640"/>
            <a:ext cx="84121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304920" y="512640"/>
            <a:ext cx="8412120" cy="1602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27"/>
          <p:cNvSpPr/>
          <p:nvPr/>
        </p:nvSpPr>
        <p:spPr>
          <a:xfrm>
            <a:off x="450720" y="2066760"/>
            <a:ext cx="8388360" cy="456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Республик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– форма правления, при котором власть сосредоточена в руках избранных прав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509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году до н.э. в Риме была установлена республика. Римляне стали выбирать из числа патрициев 2 правителей на 1 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Консул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– правители в Древнем Ри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04920" y="1523880"/>
            <a:ext cx="8610480" cy="510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лебеи права участвовать в управлении 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учили, хотя военную службу несли вместе с патриц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49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г. до н.э. плебеи ушли из Рима, когда город остро нуждался в воинской службе. Патриции        пошли на уступки. Плебеям разрешили создавать свое Народное собрание. Из числа плебеев стали избирать 2(10) НАРОДНЫХ ТРИБУ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Прямоугольник 2" descr=""/>
          <p:cNvPicPr/>
          <p:nvPr/>
        </p:nvPicPr>
        <p:blipFill>
          <a:blip r:embed="rId3"/>
          <a:stretch/>
        </p:blipFill>
        <p:spPr>
          <a:xfrm>
            <a:off x="304920" y="285840"/>
            <a:ext cx="8412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2"/>
          <a:stretch/>
        </p:blipFill>
        <p:spPr>
          <a:xfrm>
            <a:off x="365040" y="304920"/>
            <a:ext cx="8412120" cy="1603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80880" y="1676520"/>
            <a:ext cx="8534520" cy="4952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юбой плебей мог обратиться к народному трибуну с просьбой о защите. Двери его дома всегда были открыты, ему запрещалось покидать город более чем на сутки. Народные трибуны присутствовали на заседаниях сената, но скромно стояли у входа. Если сенат принимал постановление, направленное против плебеев, то трибуны произносил слово «Запрещаю!» ( по лат. – вето). Его личность была неприкосновен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657600" cy="229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28600"/>
            <a:ext cx="830592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8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390-м году до н.э. над Римом нависла страш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гроза. Через Альпы в Италию хлыну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чища галльских племён. Город был захваче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имляне разбиты. Устояла лишь маленькая крепость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рутом Капитолийском холме. Началась длитель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его ос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057400"/>
            <a:ext cx="380988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алльские пле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17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