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D19-05DF-4C60-993A-3EBDBFF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BB1-6E0E-4C51-8BF9-3C36807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595-1A8D-40DE-9760-A6C6C905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A26-0784-4285-B5DD-448F5B7C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044-A5DC-43FF-B4EA-C092FD31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42B-DDAD-4A39-8FA9-ACC8FA1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0AD-12E8-4D2B-8B53-D228ECC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2AD-4034-406E-94B9-4F3200A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414-E2CB-4A2E-8A84-78B8BFE0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28F-FD28-4C9A-B650-C5C729F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DDB-8AF0-42B5-8D8C-ABD76AA4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D41-7E51-473E-BAB4-EFCB05E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F452-4A3D-4CEF-9FC6-982BCC74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23623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« Рождение новой европейской нау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5334120"/>
            <a:ext cx="4495680" cy="121896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выполнена учителем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266720" y="13712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л новые звёз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блюдал горы на Луне и пятна на 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ормулировал закон падения тел, движение маятника и др. законы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исал книгу                 « Диалоги о двух систе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343400" cy="353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05520"/>
            <a:ext cx="396252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лилео Гал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Человек незаурядной воли, ума и мужества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14800" y="14475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л закон Всемирного тяготения, создал оптическую лабораторию, произвёл легендарный опыт разложения света,  в 1641 году построил маленький  зеркальный телескоп и законы распространения света и новые методы математических вычис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1409760"/>
            <a:ext cx="3537000" cy="40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486400"/>
            <a:ext cx="396252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Завершил  создание научной картины ми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ложил новый метод изучения природы – рассуждение от частного к общему , основанное на эксперименталь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22740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5943600"/>
            <a:ext cx="396252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энсис Бэ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Самое лучшее из всех доказательств есть опы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5053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читается основоположником науки и философии Нового времени. Вывел формулу: человек мыслит             сомне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ждаются научные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л свою аналитическую геометрию, ввёл понятие переменной величины и алгебраические обо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392640" cy="4267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5867280"/>
            <a:ext cx="274320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Я мыслю, следовательно, я существу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2767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581280"/>
            <a:ext cx="1752840" cy="304920"/>
          </a:xfrm>
          <a:prstGeom prst="rightArrow">
            <a:avLst>
              <a:gd name="adj1" fmla="val 50000"/>
              <a:gd name="adj2" fmla="val 143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0, за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развитием новой европейской нау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учёными, которые внесли свой вклад в развитие нау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вать умение работать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0880"/>
            <a:ext cx="80010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ение новой на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колай Копер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жордано Бру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лилео Гали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аак Нью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не Дека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ерты Нового врем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усиливается интерес человека к окружающему ми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в результате географических открытий раздвинулись границы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подтвердилась шарообразность Зем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растут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) развитие мануфактурного производства и мирового ры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ение новой науки, основанной на опытном 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эпоху Средневековья европейская наука соблюдала принцип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авторите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 за истину принимались мысли древност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ографи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ицину         физ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толеме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пократу       Архим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ение новой науки, основанной на опытном 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724280"/>
            <a:ext cx="485640" cy="838440"/>
          </a:xfrm>
          <a:prstGeom prst="downArrow">
            <a:avLst>
              <a:gd name="adj1" fmla="val 50000"/>
              <a:gd name="adj2" fmla="val 4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4724280"/>
            <a:ext cx="485640" cy="838440"/>
          </a:xfrm>
          <a:prstGeom prst="downArrow">
            <a:avLst>
              <a:gd name="adj1" fmla="val 50000"/>
              <a:gd name="adj2" fmla="val 4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4724280"/>
            <a:ext cx="486000" cy="838440"/>
          </a:xfrm>
          <a:prstGeom prst="downArrow">
            <a:avLst>
              <a:gd name="adj1" fmla="val 50000"/>
              <a:gd name="adj2" fmla="val 431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ст любознательности и критического отношения к действительности заставляет людей лично наблюдать явления природы. Первыми на этот путь встали гуманисты, которые признавали за человеческим разумом возможность понять и объяснить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ение новой науки, основанной на опытном 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поха Возрождения подарила европейцам независимость мышления, главным достижением которого было растущее убеждение в том, что человечество может улучшить мир, в котором живёт путём достоверн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ение новой науки, основанной на опытном 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Он подрывал фундамент ве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блюдая за небесными телами сделал вывод о том, что Земля вращается вокруг Солнца и вокруг своей оси. В 1543 году была напечатана книга « О вращении небесных сф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652920" cy="403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5791320"/>
            <a:ext cx="396252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 Копе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4304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ая учения Коперника, пришёл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 выво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ленная не имеет края, она безмерна и бесконеч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ленная не имеет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ленная- это бесчисленное множество звё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791320"/>
            <a:ext cx="396252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жордано Бру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раг всякого закона, всякой ве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9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