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1F6-FB79-4BFE-84B4-AF518443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CE2-11CE-45FD-8821-0247F511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45D-38D6-4712-8FAA-55B7BF12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A88-0E9C-4139-9EA4-23A66507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0AEB-9F38-45A4-92FB-E01F6D1A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F16F-2CE3-40C2-86BB-26CE352B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4BE6-CDE8-4676-A105-3A1F4051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6684-A89D-4B74-B042-BC2A615B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E04B-CF47-4108-BBC7-6D628649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09AC-55B8-41D3-8176-57A813AC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6435-7055-495C-82C2-F364CB70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1CA-BA62-4884-B1FE-2EDECA78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2AE2-D580-4550-AB16-0B47DCF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EC79-11D4-412B-84C1-E7E9C9DD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C49D-C88C-47ED-9EF5-184B1287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0752-27A1-4220-94C2-236C4A64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A642-D46A-41F9-86D6-117CEF42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D69-1B1C-45C7-9894-D6995974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81D-E175-431E-BEBD-F6436D1E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A33-1F6C-47D1-9431-1CF371E7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474-04D5-402F-B427-6388465D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0D6-BB4B-4E0D-94E5-62F4D1B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B89-73D8-4558-9C70-B2559607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CF3-CAA8-49C5-84F9-53E0189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05D5-FDB8-41D5-8D21-5103C1D5F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31E-902F-44D2-A0B1-C04D84420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ausanius_assassinates_Philip_during_the_procession_into_the_theatre_by_Andre_Castaigne_(1898-1899)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ap_Macedonia_336_BC-ru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acedonian_Army_Thessalia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Тема урока: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2514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c156"/>
                </a:solidFill>
                <a:latin typeface="Times New Roman"/>
              </a:rPr>
              <a:t>« Города Эллады подчиняются Македонии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4876920"/>
            <a:ext cx="48769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териал разработан учителем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удинской О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тоненковой А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фаланге было от 6 до 9 ря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пья были длинной до 2 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еческая конница была лёгкой по вооружению и  незначительной по своим размер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фаланге от 16 и более ря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нница была тяжёлой и огром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мели метательные орудия, с помощью которых бросали камни, брёвна и большие стре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28600"/>
            <a:ext cx="8534520" cy="106668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авним греческую и македонскую ар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стояла из 16 ряд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ые воины держали копья впереди себ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ледующие клали копья впереди стоящему на плеч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сли враг заходил с тыла, им нужно было лишь повернутьс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пья были разной длины, самое большое – 5 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28600"/>
            <a:ext cx="8229600" cy="121932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роение македонской фалан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мосфен о стратегии Филипп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работаем по учебни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ткройте учебник на стр. 188-189 п.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р. 189- о Демосфе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рочитайте об этом самостоятельно  на стр. 189-190.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523880"/>
            <a:ext cx="3272040" cy="5334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380880"/>
            <a:ext cx="8077320" cy="914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бийство Филиппа I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43600"/>
            <a:ext cx="396252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бийство Филипп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вса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ьте на вопросы в конце параграф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стр. 1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57200"/>
            <a:ext cx="8001000" cy="1066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ведём итог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ашнее зад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араграф 41, вопросы, записи, задания в рабочей тетрад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знакомимся с новыми понятиям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Будем развивать  умение работать с учебником; историческим источник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685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годня на урок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5360" y="228600"/>
            <a:ext cx="81532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09680" y="3808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447920"/>
            <a:ext cx="838224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кедонский царь Филипп стреми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корить сосе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Потеря Грецией независим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Приход к власти Алекса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533520"/>
            <a:ext cx="8305920" cy="914400"/>
          </a:xfrm>
          <a:prstGeom prst="rect">
            <a:avLst/>
          </a:prstGeom>
          <a:solidFill>
            <a:srgbClr val="feec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60948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яем 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2819520"/>
            <a:ext cx="655344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рминологический дикта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ате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) теат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айно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) орхе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ик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) комед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рато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) краснореч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рагеди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) ске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04920"/>
            <a:ext cx="7772400" cy="1066680"/>
          </a:xfrm>
          <a:prstGeom prst="rect">
            <a:avLst/>
          </a:prstGeom>
          <a:solidFill>
            <a:srgbClr val="feec94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оверьте себ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орода, соперничавшие между соб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672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298_4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2832120"/>
          </a:xfrm>
          <a:prstGeom prst="rect">
            <a:avLst/>
          </a:prstGeom>
          <a:ln w="0">
            <a:noFill/>
          </a:ln>
        </p:spPr>
      </p:pic>
      <p:pic>
        <p:nvPicPr>
          <p:cNvPr id="137" name="sparta-1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00200" y="4495680"/>
            <a:ext cx="1600200" cy="60984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ф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971800"/>
            <a:ext cx="1523880" cy="60948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38000">
            <a:off x="3657240" y="3886200"/>
            <a:ext cx="1522440" cy="485640"/>
          </a:xfrm>
          <a:prstGeom prst="leftRightArrow">
            <a:avLst>
              <a:gd name="adj1" fmla="val 50000"/>
              <a:gd name="adj2" fmla="val 624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002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09680" y="0"/>
            <a:ext cx="205740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ед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60948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акедонский ц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776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hilip" descr=""/>
          <p:cNvPicPr/>
          <p:nvPr/>
        </p:nvPicPr>
        <p:blipFill>
          <a:blip r:embed="rId1"/>
          <a:stretch/>
        </p:blipFill>
        <p:spPr>
          <a:xfrm>
            <a:off x="609480" y="1163520"/>
            <a:ext cx="3673440" cy="4530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14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5715000"/>
            <a:ext cx="419112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липп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Шле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ожаный панцир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руглый щ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ороткий ме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линное копь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600200"/>
            <a:ext cx="4191120" cy="3897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62520" y="5638680"/>
            <a:ext cx="4952880" cy="99072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кедонский кавалерист с саркофа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лександра Великого (IV в. до н. э.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28600"/>
            <a:ext cx="777240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оружение пехотин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01-01T00:27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